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A1AC-AFB9-40DA-9758-9C5643B9E9D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D539-0ED4-44F0-93BE-6A5EA1222B0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077F-6A53-4C5C-84DA-0D5C3041BF6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Introduce yourself - your students are likely to want to know something about your qualifications and interests - overall, where you are coming fr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Have students introduce themselves.  Ask why they are taking this class.  If you are fortunate enough to have a Polaroid camera, take pictures of each student for later posting on a class “board” so both they and you get to know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iscuss both choice of textbook and development of sylla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If you are expecting students to work in teams, at east introduce the choice of team members.  If at all possible, have students participate in a team building or team study exercise.  It works wonders.  Most student have been told to work in teams in prior classes, but have never examined exactly what a team is and how it works.  One hour spent in a team building/examination exercise saves many hours and avoids many problems later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2BDE-64E1-4493-A7BD-895610A48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70C5-6DF3-4CA2-BC75-5F7F9561F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D8C3-19E2-4575-BE1C-413BB3156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1A9A-6683-4E7B-808D-CABADB604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E5939-5734-48F0-B323-C3BC5EB7B2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762AF-78B5-4BEA-AD50-B5C1CA13A0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33B2-AD1D-43C5-81D8-22EB2F6D90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FDB3-12A9-4686-9E41-9F33655B4A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165C0-4719-4A17-9202-330A3EE6C5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AD93-9FB4-4055-A42D-2FDCAA2E50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F4F1D-3312-4138-918D-C266328CA4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B217-D315-421D-AEC2-87D710AED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EF20-1E9C-442B-B7E9-A074801889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7B11C-20C2-41E1-9A09-AE4D7FABE7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CB47-F825-47DE-BA3D-AE748A70DF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1F407-0666-4296-9C03-F227FF0A49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425A2-646D-46B4-BA98-59CFE234A7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0FB3-65A9-4179-9A0F-08A0E31E7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A783-1545-46DC-A030-D074EA7A7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D56C5-5B84-4E85-B414-B6694A422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111F-2C9F-4D2E-88A8-6070D2087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71F4-0AB9-4D5F-9A5E-A5A92BBFF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A139-0A66-4635-AA3A-A665E81C6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FF9D-B687-4120-A57B-A73B38612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5C5B-00E8-4D71-8E20-4B7CDFD56B8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369000" y="6437160"/>
            <a:ext cx="252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mgt 345 Shannon   January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369000" y="6437160"/>
            <a:ext cx="252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mgt 345 Shannon   January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DEAF-5CA6-4B65-89F5-0CA4E60C96F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D430-CDE5-4FCD-ACF2-B8FE031ACC4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2971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sic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D05A-013A-4312-855B-D0A7CAD7C6C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 Project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523880" y="2209680"/>
            <a:ext cx="60962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Select Project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Identify Key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Gain Management 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Define Project Team Operating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59F7-BE40-4692-80E7-CFBF108306D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880" y="1794960"/>
            <a:ext cx="7788240" cy="33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c2900"/>
                </a:solidFill>
                <a:latin typeface="Times New Roman"/>
              </a:rPr>
              <a:t>Project Manager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A275-A4AA-4CB1-8922-DA03EC40787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 Manager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131840" y="1268280"/>
            <a:ext cx="712152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500040" indent="-500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cheduling and time mgt. ski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500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echnical skills ( scope of project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500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Leadership skills ( goals, performance measur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500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Resource mgt., human relationship skil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500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mmunication ski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500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egotiation ski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500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arketing, Contracting, customer relationship ski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500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udgeting and cost skil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500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9E9A-6B9D-4BB5-BB74-34EE7C77B7B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Interactions of project stake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530520" y="3197160"/>
            <a:ext cx="160200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ject Manag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530520" y="1424160"/>
            <a:ext cx="1602000" cy="55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Government agenc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853240" y="1500120"/>
            <a:ext cx="160164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onsulta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290600" y="1500120"/>
            <a:ext cx="160200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Top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290600" y="3197160"/>
            <a:ext cx="168264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Financial Manag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5772240" y="3121200"/>
            <a:ext cx="160020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450800" y="5126040"/>
            <a:ext cx="160200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ject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3613320" y="5126040"/>
            <a:ext cx="160020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ther Organiz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932440" y="5049720"/>
            <a:ext cx="160200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ubcontract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4332240" y="3814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5132520" y="3660840"/>
            <a:ext cx="1439640" cy="1311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2252520" y="37368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5"/>
          <p:cNvSpPr/>
          <p:nvPr/>
        </p:nvSpPr>
        <p:spPr>
          <a:xfrm>
            <a:off x="2092320" y="20415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4332240" y="211788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 flipH="1">
            <a:off x="5132160" y="1886040"/>
            <a:ext cx="1439640" cy="1235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5211720" y="327492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 flipH="1">
            <a:off x="2971440" y="3584520"/>
            <a:ext cx="800280" cy="138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0"/>
          <p:cNvSpPr/>
          <p:nvPr/>
        </p:nvSpPr>
        <p:spPr>
          <a:xfrm>
            <a:off x="2571840" y="1962000"/>
            <a:ext cx="1041480" cy="1159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1"/>
          <p:cNvSpPr/>
          <p:nvPr/>
        </p:nvSpPr>
        <p:spPr>
          <a:xfrm flipH="1">
            <a:off x="3051000" y="33526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B584-4F81-43A9-9CA9-83001C2C251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Manager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ility to the parent Or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ility to the project and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ility to the member of the projec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DB64-B128-40BF-968F-D0E9163577D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ng Project Manag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some of the most popular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strong technical backgroun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hard-nosed manag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matured individu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omeone who is currently avaiab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omeone on good terms with senior executiv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person who can keep the project team happ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e who has worked in several departm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person who can walk on ( or part ) the water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44F2-22E7-4AB5-8167-7DAEA1899D8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ng th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credibility ( technical knowledg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ve credibility ( managing resources( money, people, material) keeping the project on scheu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related to the ability of the manager to discover the problems at early stages and solve the team’s problems if we have some confl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and management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ership  is defined as the ability of affecting others in away that gurantees the project profitability to the org. and soci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work under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353C-D710-44CE-A931-102BF428846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 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everal reasons why we must use considerable care when planning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mary purpose of planning is to establish a set of directions in sufficient detail to tell the project team exactly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ust be d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it must be d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resources to u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E9E3-D9FF-4A68-A899-90C40DBFF5A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plan Eleme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hort summary of the objectives and scope of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to top mgt. and contains a statement of goals of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scription of the managerial structure that will be used for the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st of major milestones in the project sch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D86D-9518-4D0A-AA31-9113D598BFE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plan Eleme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ed statement of general goals noted on the overview s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ement should include profit and competitive aims as well as technical go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s both the managerial ( style of mgt. ) and the technical approaches ( required equipments, technology ) to the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799F-5922-4EF1-B542-20B2FF5F6E3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838080" y="1981080"/>
            <a:ext cx="777240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08"/>
                </a:solidFill>
                <a:latin typeface="Times New Roman"/>
              </a:rPr>
              <a:t>A Project is a series of activities and tasks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409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specific tasks and activities to be completed with certain object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409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defined start and end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409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funding limits (if applic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409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e Resourc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46A3-02BE-4366-A1D3-D289E99FAA4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plan Eleme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ual aspects: ( list for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eporting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-supplied re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ory commi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cellation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management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19EB-01D4-4BDD-BB4C-42878860FF5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plan Eleme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sche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all milestones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asks,  and their durations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ur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apital and expense requirements are detailed by task. ( Project budget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monitoring and control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06E6-9F87-493A-ABF7-F68A66816AA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plan Eleme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nel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ed personne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skill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training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e recruiting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and political restri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587E-7E28-4898-B22D-C7F74B7530A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plan Eleme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project should be evaluated against standards and by methods established at the project ince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ection includ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rief description of the procedure to be followed in monitoring , collecting, storing, and evaluating the history of the pro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8CF5-8281-4729-9C78-A8A032BAC13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plan Eleme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 probl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and internal potential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D934-19EC-403C-9812-0555EC84813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-Breakdown- Structure (WB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result family tree , subdivision of the major tasks( hw, services , etc ) and the data required to produce the final product , it acts as a vehicle for breaking down the work into smaller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8A96-95D4-4E99-9536-6062F780DC5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-Breakdown- Structure (WB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2 types of W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i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Organization Chart 4"/>
          <p:cNvGrpSpPr/>
          <p:nvPr/>
        </p:nvGrpSpPr>
        <p:grpSpPr>
          <a:xfrm>
            <a:off x="4656240" y="1981080"/>
            <a:ext cx="3801600" cy="1974600"/>
            <a:chOff x="4656240" y="1981080"/>
            <a:chExt cx="3801600" cy="1974600"/>
          </a:xfrm>
        </p:grpSpPr>
        <p:cxnSp>
          <p:nvCxnSpPr>
            <p:cNvPr id="245" name="_s1028"/>
            <p:cNvCxnSpPr>
              <a:stCxn id="246" idx="0"/>
              <a:endCxn id="247" idx="2"/>
            </p:cNvCxnSpPr>
            <p:nvPr/>
          </p:nvCxnSpPr>
          <p:spPr>
            <a:xfrm flipV="1" rot="16200000">
              <a:off x="7665840" y="3091320"/>
              <a:ext cx="247320" cy="493560"/>
            </a:xfrm>
            <a:prstGeom prst="bentConnector3">
              <a:avLst>
                <a:gd name="adj1" fmla="val 35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1029"/>
            <p:cNvCxnSpPr>
              <a:stCxn id="249" idx="0"/>
              <a:endCxn id="247" idx="2"/>
            </p:cNvCxnSpPr>
            <p:nvPr/>
          </p:nvCxnSpPr>
          <p:spPr>
            <a:xfrm flipH="1" flipV="1" rot="5400000">
              <a:off x="7173360" y="3091320"/>
              <a:ext cx="247320" cy="493920"/>
            </a:xfrm>
            <a:prstGeom prst="bentConnector3">
              <a:avLst>
                <a:gd name="adj1" fmla="val 35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1030"/>
            <p:cNvCxnSpPr>
              <a:stCxn id="251" idx="0"/>
              <a:endCxn id="252" idx="2"/>
            </p:cNvCxnSpPr>
            <p:nvPr/>
          </p:nvCxnSpPr>
          <p:spPr>
            <a:xfrm flipV="1" rot="16200000">
              <a:off x="5694840" y="3091680"/>
              <a:ext cx="247320" cy="492840"/>
            </a:xfrm>
            <a:prstGeom prst="bentConnector3">
              <a:avLst>
                <a:gd name="adj1" fmla="val 35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3" name="_s1031"/>
            <p:cNvCxnSpPr>
              <a:stCxn id="254" idx="0"/>
              <a:endCxn id="252" idx="2"/>
            </p:cNvCxnSpPr>
            <p:nvPr/>
          </p:nvCxnSpPr>
          <p:spPr>
            <a:xfrm flipH="1" flipV="1" rot="5400000">
              <a:off x="5202720" y="3091320"/>
              <a:ext cx="247320" cy="493920"/>
            </a:xfrm>
            <a:prstGeom prst="bentConnector3">
              <a:avLst>
                <a:gd name="adj1" fmla="val 35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1032"/>
            <p:cNvCxnSpPr>
              <a:stCxn id="247" idx="0"/>
              <a:endCxn id="256" idx="2"/>
            </p:cNvCxnSpPr>
            <p:nvPr/>
          </p:nvCxnSpPr>
          <p:spPr>
            <a:xfrm flipV="1" rot="16200000">
              <a:off x="6926760" y="2104560"/>
              <a:ext cx="247320" cy="986040"/>
            </a:xfrm>
            <a:prstGeom prst="bentConnector3">
              <a:avLst>
                <a:gd name="adj1" fmla="val 35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1033"/>
            <p:cNvCxnSpPr>
              <a:stCxn id="252" idx="0"/>
              <a:endCxn id="256" idx="2"/>
            </p:cNvCxnSpPr>
            <p:nvPr/>
          </p:nvCxnSpPr>
          <p:spPr>
            <a:xfrm flipH="1" flipV="1" rot="5400000">
              <a:off x="5941800" y="2104920"/>
              <a:ext cx="247320" cy="985680"/>
            </a:xfrm>
            <a:prstGeom prst="bentConnector3">
              <a:avLst>
                <a:gd name="adj1" fmla="val 35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6" name="_s1034"/>
            <p:cNvSpPr/>
            <p:nvPr/>
          </p:nvSpPr>
          <p:spPr>
            <a:xfrm>
              <a:off x="6134400" y="1981080"/>
              <a:ext cx="845280" cy="4935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_s1035"/>
            <p:cNvSpPr/>
            <p:nvPr/>
          </p:nvSpPr>
          <p:spPr>
            <a:xfrm>
              <a:off x="5149080" y="2721600"/>
              <a:ext cx="845280" cy="4935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_s1036"/>
            <p:cNvSpPr/>
            <p:nvPr/>
          </p:nvSpPr>
          <p:spPr>
            <a:xfrm>
              <a:off x="7120800" y="2721600"/>
              <a:ext cx="845280" cy="4935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_s1037"/>
            <p:cNvSpPr/>
            <p:nvPr/>
          </p:nvSpPr>
          <p:spPr>
            <a:xfrm>
              <a:off x="4656240" y="3462120"/>
              <a:ext cx="845280" cy="4917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_s1038"/>
            <p:cNvSpPr/>
            <p:nvPr/>
          </p:nvSpPr>
          <p:spPr>
            <a:xfrm>
              <a:off x="5642280" y="3462120"/>
              <a:ext cx="845280" cy="4935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_s1039"/>
            <p:cNvSpPr/>
            <p:nvPr/>
          </p:nvSpPr>
          <p:spPr>
            <a:xfrm>
              <a:off x="6628680" y="3462120"/>
              <a:ext cx="844200" cy="4899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_s1040"/>
            <p:cNvSpPr/>
            <p:nvPr/>
          </p:nvSpPr>
          <p:spPr>
            <a:xfrm>
              <a:off x="7613640" y="3462120"/>
              <a:ext cx="844200" cy="4899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8" name="Object 19"/>
          <p:cNvGraphicFramePr/>
          <p:nvPr/>
        </p:nvGraphicFramePr>
        <p:xfrm>
          <a:off x="1131840" y="4508640"/>
          <a:ext cx="6429600" cy="14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4508640"/>
                    <a:ext cx="642960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D36A-0032-4192-BADD-AE4BFFA5515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ned Value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00120"/>
            <a:ext cx="77724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ntinuous comparison between the plan of the project data and the actual da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udgeted and Committed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= Budgeted cost – committed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(+ve ) = Unconsumed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( -ve ) = Over spe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6A12-8971-4EA7-9A16-5B978F88805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t and Schedule Varia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331920" y="1335240"/>
            <a:ext cx="8240760" cy="47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313B-A584-47B3-8F25-A5EC52644F5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t and Schedule Varia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492120" y="1114560"/>
            <a:ext cx="824076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5D50-F394-4FF0-AF02-404B1710D97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Project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58760" y="2139840"/>
            <a:ext cx="1587600" cy="90180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58960" y="3282840"/>
            <a:ext cx="1663560" cy="90180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505320" y="4343400"/>
            <a:ext cx="1600200" cy="914400"/>
          </a:xfrm>
          <a:prstGeom prst="rect">
            <a:avLst/>
          </a:prstGeom>
          <a:solidFill>
            <a:srgbClr val="a2c1fe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340240" y="2749680"/>
            <a:ext cx="1587600" cy="90144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416560" y="5797440"/>
            <a:ext cx="1587600" cy="90180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Adju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7397640" y="4349880"/>
            <a:ext cx="1587600" cy="90144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914400" y="30542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920880" y="38098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2590920" y="41972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2597040" y="495288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4343400" y="334620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4349880" y="335268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6019920" y="3664080"/>
            <a:ext cx="0" cy="212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 flipH="1">
            <a:off x="4565520" y="6324480"/>
            <a:ext cx="85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7"/>
          <p:cNvSpPr/>
          <p:nvPr/>
        </p:nvSpPr>
        <p:spPr>
          <a:xfrm flipV="1">
            <a:off x="4572000" y="525096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8"/>
          <p:cNvSpPr/>
          <p:nvPr/>
        </p:nvSpPr>
        <p:spPr>
          <a:xfrm>
            <a:off x="6026040" y="472428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9"/>
          <p:cNvSpPr/>
          <p:nvPr/>
        </p:nvSpPr>
        <p:spPr>
          <a:xfrm flipV="1">
            <a:off x="8229600" y="2050920"/>
            <a:ext cx="0" cy="2298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0"/>
          <p:cNvSpPr/>
          <p:nvPr/>
        </p:nvSpPr>
        <p:spPr>
          <a:xfrm flipH="1">
            <a:off x="2660400" y="2057400"/>
            <a:ext cx="55753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1"/>
          <p:cNvSpPr/>
          <p:nvPr/>
        </p:nvSpPr>
        <p:spPr>
          <a:xfrm flipV="1">
            <a:off x="2666880" y="2050920"/>
            <a:ext cx="0" cy="12319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E1A4-6BE7-4FF1-B898-672CA2E76E5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CW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dgeted Cost of Work Sche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85800" y="1981080"/>
          <a:ext cx="7772400" cy="147960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  <a:gridCol w="777960"/>
                <a:gridCol w="776160"/>
                <a:gridCol w="777960"/>
                <a:gridCol w="777960"/>
                <a:gridCol w="776160"/>
                <a:gridCol w="777960"/>
                <a:gridCol w="776160"/>
                <a:gridCol w="777960"/>
              </a:tblGrid>
              <a:tr h="52704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64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Line 38"/>
          <p:cNvSpPr/>
          <p:nvPr/>
        </p:nvSpPr>
        <p:spPr>
          <a:xfrm flipV="1">
            <a:off x="4172040" y="3121200"/>
            <a:ext cx="0" cy="61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9"/>
          <p:cNvSpPr/>
          <p:nvPr/>
        </p:nvSpPr>
        <p:spPr>
          <a:xfrm>
            <a:off x="3692520" y="3736800"/>
            <a:ext cx="1198440" cy="38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0"/>
          <p:cNvSpPr/>
          <p:nvPr/>
        </p:nvSpPr>
        <p:spPr>
          <a:xfrm>
            <a:off x="492120" y="4354560"/>
            <a:ext cx="800100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CWS = X1 + X2 + X3 + X4 + X5 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is is the sum of all the costs up to the specific activity that is stated in budget pl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9D8F-7E6F-4A9E-8EAE-9018B306691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CW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dgeted Cost of Work Perform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492120" y="3736800"/>
            <a:ext cx="800100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CWP = X1 + X2 + X3 + 0.8 X4 + 0.5 X5 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is is the sum of all the costs up to the specific activity in relation with its completion percent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685800" y="1981080"/>
          <a:ext cx="7772400" cy="16066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6412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56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E337-2743-4017-A5EF-5EE3BABC319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W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tual Cost of Work Perform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492120" y="1731960"/>
            <a:ext cx="800100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CWP = Actual cost of work do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is is the total costs of the work done on reality provided by project manager on the financial moni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6279-8B20-4021-88E4-5768C55FC40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650880" y="258840"/>
            <a:ext cx="800100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4EFE-96B4-4A1E-B6CB-06151960A9F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BCWP &gt; BCWS   ( over spend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BCWP &lt; BCWS    ( time is late  -v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BCWP &gt; BC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+ve   time is more than sufficient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83A1-C4CD-45ED-B88F-3684A6FD272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331920" y="496800"/>
            <a:ext cx="81612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CA1E-691A-45D6-A168-9AEA2B0EA13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680" y="1634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Forecast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806040"/>
            <a:ext cx="7772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It is the process of prediction of the future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Benefits of forecast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8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To estimate the cost of remaining parts of a project ( forecasted value 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8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To identify the source and places of certain problems in the budget pl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8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It is a tool for corrective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382E-D49E-4CC4-88BC-12C41B583F4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680" y="1634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Forecasting</a:t>
            </a:r>
            <a:br>
              <a:rPr sz="4400"/>
            </a:b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Mathematical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3196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Cost Performance Index ( CPI 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CPI = BCWP / ACW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It gives a good indication whether the project is performing financially well or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CPI &gt; 1 : Good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CPI &lt; 1 : Bad performance ( short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Overspend 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A2D3-F916-41EA-A4F2-D8C5BC987E2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1680" y="1634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Forecasting</a:t>
            </a:r>
            <a:br>
              <a:rPr sz="4400"/>
            </a:b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Mathematical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3196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Schedule Performance Index ( SPI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9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SPI = BCWP / BC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It is a good indicator for the project tim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SPI &gt; 1 : Good perform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SPI &lt; 1 : Bad performance (Poor 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9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AE13-EF81-48DD-8AE4-75A54DB7072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680" y="1634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Forecasting</a:t>
            </a:r>
            <a:br>
              <a:rPr sz="4400"/>
            </a:b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Mathematical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3196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5680" indent="-53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 u="sng">
                <a:solidFill>
                  <a:srgbClr val="000000"/>
                </a:solidFill>
                <a:uFillTx/>
                <a:latin typeface="Times New Roman"/>
              </a:rPr>
              <a:t>Budgeting Cost to Completion ( BCC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5680" indent="-53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The Amount of money needed to comple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5680" indent="-53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BCC = BAC – BCW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5680" indent="-53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It is defined as the amount of money required to complete a project where it is partially completed ( remaining money 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5680" indent="0">
              <a:spcBef>
                <a:spcPts val="9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F186-8BC4-483A-99B5-E3573B13679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0656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Life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1317600" y="2895480"/>
            <a:ext cx="722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"/>
          <p:cNvSpPr/>
          <p:nvPr/>
        </p:nvSpPr>
        <p:spPr>
          <a:xfrm flipV="1">
            <a:off x="1311120" y="907560"/>
            <a:ext cx="0" cy="199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 rot="16200000">
            <a:off x="2880" y="1598040"/>
            <a:ext cx="1894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imes New Roman"/>
              </a:rPr>
              <a:t>Resources and Eff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6"/>
          <p:cNvSpPr/>
          <p:nvPr/>
        </p:nvSpPr>
        <p:spPr>
          <a:xfrm>
            <a:off x="1311120" y="1066680"/>
            <a:ext cx="7164720" cy="1754280"/>
          </a:xfrm>
          <a:custGeom>
            <a:avLst/>
            <a:gdLst>
              <a:gd name="textAreaLeft" fmla="*/ 0 w 7164720"/>
              <a:gd name="textAreaRight" fmla="*/ 7165080 w 7164720"/>
              <a:gd name="textAreaTop" fmla="*/ 0 h 1754280"/>
              <a:gd name="textAreaBottom" fmla="*/ 1754640 h 1754280"/>
            </a:gdLst>
            <a:ahLst/>
            <a:rect l="textAreaLeft" t="textAreaTop" r="textAreaRight" b="textAreaBottom"/>
            <a:pathLst>
              <a:path w="4513" h="1105">
                <a:moveTo>
                  <a:pt x="0" y="1056"/>
                </a:moveTo>
                <a:lnTo>
                  <a:pt x="42" y="1073"/>
                </a:lnTo>
                <a:lnTo>
                  <a:pt x="100" y="1073"/>
                </a:lnTo>
                <a:lnTo>
                  <a:pt x="146" y="1073"/>
                </a:lnTo>
                <a:lnTo>
                  <a:pt x="181" y="1073"/>
                </a:lnTo>
                <a:lnTo>
                  <a:pt x="216" y="1073"/>
                </a:lnTo>
                <a:lnTo>
                  <a:pt x="262" y="1073"/>
                </a:lnTo>
                <a:lnTo>
                  <a:pt x="308" y="1061"/>
                </a:lnTo>
                <a:lnTo>
                  <a:pt x="354" y="1061"/>
                </a:lnTo>
                <a:lnTo>
                  <a:pt x="400" y="1050"/>
                </a:lnTo>
                <a:lnTo>
                  <a:pt x="435" y="1050"/>
                </a:lnTo>
                <a:lnTo>
                  <a:pt x="481" y="1038"/>
                </a:lnTo>
                <a:lnTo>
                  <a:pt x="527" y="1026"/>
                </a:lnTo>
                <a:lnTo>
                  <a:pt x="562" y="1026"/>
                </a:lnTo>
                <a:lnTo>
                  <a:pt x="608" y="1003"/>
                </a:lnTo>
                <a:lnTo>
                  <a:pt x="654" y="1003"/>
                </a:lnTo>
                <a:lnTo>
                  <a:pt x="689" y="992"/>
                </a:lnTo>
                <a:lnTo>
                  <a:pt x="746" y="969"/>
                </a:lnTo>
                <a:lnTo>
                  <a:pt x="781" y="969"/>
                </a:lnTo>
                <a:lnTo>
                  <a:pt x="816" y="957"/>
                </a:lnTo>
                <a:lnTo>
                  <a:pt x="873" y="934"/>
                </a:lnTo>
                <a:lnTo>
                  <a:pt x="908" y="923"/>
                </a:lnTo>
                <a:lnTo>
                  <a:pt x="966" y="911"/>
                </a:lnTo>
                <a:lnTo>
                  <a:pt x="1023" y="900"/>
                </a:lnTo>
                <a:lnTo>
                  <a:pt x="1069" y="876"/>
                </a:lnTo>
                <a:lnTo>
                  <a:pt x="1116" y="876"/>
                </a:lnTo>
                <a:lnTo>
                  <a:pt x="1162" y="865"/>
                </a:lnTo>
                <a:lnTo>
                  <a:pt x="1219" y="830"/>
                </a:lnTo>
                <a:lnTo>
                  <a:pt x="1266" y="819"/>
                </a:lnTo>
                <a:lnTo>
                  <a:pt x="1323" y="796"/>
                </a:lnTo>
                <a:lnTo>
                  <a:pt x="1358" y="784"/>
                </a:lnTo>
                <a:lnTo>
                  <a:pt x="1416" y="761"/>
                </a:lnTo>
                <a:lnTo>
                  <a:pt x="1485" y="738"/>
                </a:lnTo>
                <a:lnTo>
                  <a:pt x="1542" y="715"/>
                </a:lnTo>
                <a:lnTo>
                  <a:pt x="1589" y="692"/>
                </a:lnTo>
                <a:lnTo>
                  <a:pt x="1635" y="680"/>
                </a:lnTo>
                <a:lnTo>
                  <a:pt x="1681" y="657"/>
                </a:lnTo>
                <a:lnTo>
                  <a:pt x="1716" y="634"/>
                </a:lnTo>
                <a:lnTo>
                  <a:pt x="1773" y="611"/>
                </a:lnTo>
                <a:lnTo>
                  <a:pt x="1819" y="600"/>
                </a:lnTo>
                <a:lnTo>
                  <a:pt x="1854" y="576"/>
                </a:lnTo>
                <a:lnTo>
                  <a:pt x="1900" y="565"/>
                </a:lnTo>
                <a:lnTo>
                  <a:pt x="1935" y="542"/>
                </a:lnTo>
                <a:lnTo>
                  <a:pt x="1992" y="507"/>
                </a:lnTo>
                <a:lnTo>
                  <a:pt x="2039" y="484"/>
                </a:lnTo>
                <a:lnTo>
                  <a:pt x="2096" y="450"/>
                </a:lnTo>
                <a:lnTo>
                  <a:pt x="2131" y="426"/>
                </a:lnTo>
                <a:lnTo>
                  <a:pt x="2166" y="392"/>
                </a:lnTo>
                <a:lnTo>
                  <a:pt x="2212" y="369"/>
                </a:lnTo>
                <a:lnTo>
                  <a:pt x="2258" y="334"/>
                </a:lnTo>
                <a:lnTo>
                  <a:pt x="2316" y="288"/>
                </a:lnTo>
                <a:lnTo>
                  <a:pt x="2373" y="242"/>
                </a:lnTo>
                <a:lnTo>
                  <a:pt x="2408" y="230"/>
                </a:lnTo>
                <a:lnTo>
                  <a:pt x="2454" y="196"/>
                </a:lnTo>
                <a:lnTo>
                  <a:pt x="2489" y="184"/>
                </a:lnTo>
                <a:lnTo>
                  <a:pt x="2546" y="138"/>
                </a:lnTo>
                <a:lnTo>
                  <a:pt x="2581" y="126"/>
                </a:lnTo>
                <a:lnTo>
                  <a:pt x="2627" y="103"/>
                </a:lnTo>
                <a:lnTo>
                  <a:pt x="2662" y="92"/>
                </a:lnTo>
                <a:lnTo>
                  <a:pt x="2708" y="80"/>
                </a:lnTo>
                <a:lnTo>
                  <a:pt x="2754" y="57"/>
                </a:lnTo>
                <a:lnTo>
                  <a:pt x="2789" y="46"/>
                </a:lnTo>
                <a:lnTo>
                  <a:pt x="2846" y="23"/>
                </a:lnTo>
                <a:lnTo>
                  <a:pt x="2904" y="23"/>
                </a:lnTo>
                <a:lnTo>
                  <a:pt x="2962" y="11"/>
                </a:lnTo>
                <a:lnTo>
                  <a:pt x="3008" y="0"/>
                </a:lnTo>
                <a:lnTo>
                  <a:pt x="3054" y="0"/>
                </a:lnTo>
                <a:lnTo>
                  <a:pt x="3112" y="0"/>
                </a:lnTo>
                <a:lnTo>
                  <a:pt x="3158" y="0"/>
                </a:lnTo>
                <a:lnTo>
                  <a:pt x="3204" y="0"/>
                </a:lnTo>
                <a:lnTo>
                  <a:pt x="3239" y="11"/>
                </a:lnTo>
                <a:lnTo>
                  <a:pt x="3296" y="23"/>
                </a:lnTo>
                <a:lnTo>
                  <a:pt x="3342" y="46"/>
                </a:lnTo>
                <a:lnTo>
                  <a:pt x="3377" y="69"/>
                </a:lnTo>
                <a:lnTo>
                  <a:pt x="3412" y="80"/>
                </a:lnTo>
                <a:lnTo>
                  <a:pt x="3458" y="115"/>
                </a:lnTo>
                <a:lnTo>
                  <a:pt x="3504" y="161"/>
                </a:lnTo>
                <a:lnTo>
                  <a:pt x="3539" y="173"/>
                </a:lnTo>
                <a:lnTo>
                  <a:pt x="3550" y="219"/>
                </a:lnTo>
                <a:lnTo>
                  <a:pt x="3585" y="253"/>
                </a:lnTo>
                <a:lnTo>
                  <a:pt x="3619" y="300"/>
                </a:lnTo>
                <a:lnTo>
                  <a:pt x="3642" y="346"/>
                </a:lnTo>
                <a:lnTo>
                  <a:pt x="3677" y="403"/>
                </a:lnTo>
                <a:lnTo>
                  <a:pt x="3700" y="438"/>
                </a:lnTo>
                <a:lnTo>
                  <a:pt x="3735" y="484"/>
                </a:lnTo>
                <a:lnTo>
                  <a:pt x="3746" y="519"/>
                </a:lnTo>
                <a:lnTo>
                  <a:pt x="3769" y="565"/>
                </a:lnTo>
                <a:lnTo>
                  <a:pt x="3816" y="600"/>
                </a:lnTo>
                <a:lnTo>
                  <a:pt x="3839" y="646"/>
                </a:lnTo>
                <a:lnTo>
                  <a:pt x="3896" y="692"/>
                </a:lnTo>
                <a:lnTo>
                  <a:pt x="3931" y="738"/>
                </a:lnTo>
                <a:lnTo>
                  <a:pt x="3954" y="773"/>
                </a:lnTo>
                <a:lnTo>
                  <a:pt x="3989" y="796"/>
                </a:lnTo>
                <a:lnTo>
                  <a:pt x="4046" y="842"/>
                </a:lnTo>
                <a:lnTo>
                  <a:pt x="4081" y="876"/>
                </a:lnTo>
                <a:lnTo>
                  <a:pt x="4127" y="911"/>
                </a:lnTo>
                <a:lnTo>
                  <a:pt x="4162" y="957"/>
                </a:lnTo>
                <a:lnTo>
                  <a:pt x="4196" y="992"/>
                </a:lnTo>
                <a:lnTo>
                  <a:pt x="4231" y="1003"/>
                </a:lnTo>
                <a:lnTo>
                  <a:pt x="4266" y="1026"/>
                </a:lnTo>
                <a:lnTo>
                  <a:pt x="4312" y="1038"/>
                </a:lnTo>
                <a:lnTo>
                  <a:pt x="4369" y="1050"/>
                </a:lnTo>
                <a:lnTo>
                  <a:pt x="4416" y="1073"/>
                </a:lnTo>
                <a:lnTo>
                  <a:pt x="4462" y="1084"/>
                </a:lnTo>
                <a:lnTo>
                  <a:pt x="4508" y="1084"/>
                </a:lnTo>
                <a:lnTo>
                  <a:pt x="4512" y="1056"/>
                </a:lnTo>
                <a:lnTo>
                  <a:pt x="4512" y="11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2454120" y="2597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3825720" y="21398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5349960" y="130176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7178760" y="175896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449000" y="3178080"/>
            <a:ext cx="92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1146240" y="4495680"/>
            <a:ext cx="13806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as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i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1372680" y="3657600"/>
            <a:ext cx="1120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c0128"/>
                </a:solidFill>
                <a:latin typeface="Times New Roman"/>
              </a:rPr>
              <a:t>Concep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c0128"/>
                </a:solidFill>
                <a:latin typeface="Times New Roman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820600" y="3178080"/>
            <a:ext cx="92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2524680" y="365760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14ffb"/>
                </a:solidFill>
                <a:latin typeface="Times New Roman"/>
              </a:rPr>
              <a:t>Adv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14ffb"/>
                </a:solidFill>
                <a:latin typeface="Times New Roman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2443680" y="4495680"/>
            <a:ext cx="14022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i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2454120" y="313056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4115880" y="3178080"/>
            <a:ext cx="92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4082040" y="3657600"/>
            <a:ext cx="880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0073"/>
                </a:solidFill>
                <a:latin typeface="Times New Roman"/>
              </a:rPr>
              <a:t>Deta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0073"/>
                </a:solidFill>
                <a:latin typeface="Times New Roman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3888720" y="4495680"/>
            <a:ext cx="145836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pons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ailed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ck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1"/>
          <p:cNvSpPr/>
          <p:nvPr/>
        </p:nvSpPr>
        <p:spPr>
          <a:xfrm>
            <a:off x="3825720" y="30542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5868360" y="3178080"/>
            <a:ext cx="92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5623920" y="3657600"/>
            <a:ext cx="1456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f9100"/>
                </a:solidFill>
                <a:latin typeface="Times New Roman"/>
              </a:rPr>
              <a:t>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f9100"/>
                </a:solidFill>
                <a:latin typeface="Times New Roman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4"/>
          <p:cNvSpPr/>
          <p:nvPr/>
        </p:nvSpPr>
        <p:spPr>
          <a:xfrm>
            <a:off x="5565960" y="4495680"/>
            <a:ext cx="145368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ify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lem So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5"/>
          <p:cNvSpPr/>
          <p:nvPr/>
        </p:nvSpPr>
        <p:spPr>
          <a:xfrm>
            <a:off x="5349960" y="30542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6"/>
          <p:cNvSpPr/>
          <p:nvPr/>
        </p:nvSpPr>
        <p:spPr>
          <a:xfrm>
            <a:off x="7510320" y="3657600"/>
            <a:ext cx="118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f000b"/>
                </a:solidFill>
                <a:latin typeface="Times New Roman"/>
              </a:rPr>
              <a:t>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f000b"/>
                </a:solidFill>
                <a:latin typeface="Times New Roman"/>
              </a:rPr>
              <a:t>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7"/>
          <p:cNvSpPr/>
          <p:nvPr/>
        </p:nvSpPr>
        <p:spPr>
          <a:xfrm>
            <a:off x="7544880" y="3178080"/>
            <a:ext cx="92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as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8"/>
          <p:cNvSpPr/>
          <p:nvPr/>
        </p:nvSpPr>
        <p:spPr>
          <a:xfrm>
            <a:off x="7395120" y="4495680"/>
            <a:ext cx="15894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ose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g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rov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s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solv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9"/>
          <p:cNvSpPr/>
          <p:nvPr/>
        </p:nvSpPr>
        <p:spPr>
          <a:xfrm>
            <a:off x="7178760" y="30542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30"/>
          <p:cNvSpPr/>
          <p:nvPr/>
        </p:nvSpPr>
        <p:spPr>
          <a:xfrm>
            <a:off x="1165320" y="4267080"/>
            <a:ext cx="768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5DF1-0957-4300-8D91-0948604EB04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1680" y="1634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Forecasting</a:t>
            </a:r>
            <a:br>
              <a:rPr sz="4400"/>
            </a:b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Mathematical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3196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timated Cost to Completion ( ECC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Its more realistic value than budge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ECC = BCC / C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It depends on CPI which is a by product of the actual cost of work per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ecasted Cost to Completion ( FCC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FCC = ACWP + E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3724-D8E5-4FB3-A491-D19BAE617CC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31920" y="0"/>
            <a:ext cx="848016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F9DE-C884-49A5-A0F9-4B0F0E6B6DB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The R&amp;D department of a company has been developing a new product line, the project manager is concerned whether the following provided data is exhibiting a good project performance, calculate the following and comment on the project status to convince the project man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CPI,BCC, ECC, SPI, FC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667E-3AE1-43F8-B7B5-628AA1AF867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77880" y="163440"/>
          <a:ext cx="7780320" cy="5948280"/>
        </p:xfrm>
        <a:graphic>
          <a:graphicData uri="http://schemas.openxmlformats.org/drawingml/2006/table">
            <a:tbl>
              <a:tblPr/>
              <a:tblGrid>
                <a:gridCol w="1414440"/>
                <a:gridCol w="1697040"/>
                <a:gridCol w="1903320"/>
                <a:gridCol w="1209600"/>
                <a:gridCol w="1555920"/>
              </a:tblGrid>
              <a:tr h="1029240"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 Packag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dgeted C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ion Time 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ual C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Complet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80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8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4390-E94F-4CBB-9B63-7C40AA4C14D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191960"/>
            <a:ext cx="777240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BCWS = 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20000 + 20000 + 37000 + 27000 + 12000 + 28000 =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100" spc="-1" strike="noStrike">
                <a:solidFill>
                  <a:srgbClr val="000000"/>
                </a:solidFill>
                <a:latin typeface="Times New Roman"/>
              </a:rPr>
              <a:t>144000 $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ACWP = 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23500+20500+23000+27000+4500+18500 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100" spc="-1" strike="noStrike">
                <a:solidFill>
                  <a:srgbClr val="000000"/>
                </a:solidFill>
                <a:latin typeface="Times New Roman"/>
              </a:rPr>
              <a:t>117000 $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BCWP = 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20000 + 20000 + ( 37000 x 0.7 ) + 27000 + ( 12000 x 0.6 ) + ( 28000 x 0.75 ) =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100" spc="-1" strike="noStrike">
                <a:solidFill>
                  <a:srgbClr val="000000"/>
                </a:solidFill>
                <a:latin typeface="Times New Roman"/>
              </a:rPr>
              <a:t>119900 $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CPI = BCWP / ACWP = 119900 / 117000 = 1.02 good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BA44-C15A-4D13-B676-EFA1838DD5A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85800" y="496440"/>
            <a:ext cx="777240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BAC = Budget at Completion = 184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BCC = BAC – BCWP = 184000 – 119900 = 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64100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ECC = BCC / CPI = 64100/1.02 = 62843.14 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SPI = BCWP / BCWS = 119900 / 144000 = 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0.832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&lt; 1  Poor performance 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according to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FCC = ACWP + ECC = 117000 + 62843.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= 179843.14 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E18F-E916-45AE-BAD7-8534957CC82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88688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We do not have any financial problem i.e the budgeted cost (money resources) is larger than the forecasted values, we conclude that the money is available , it is more than sufficient as the indicators were positive, the only problem we have is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D108-2282-4CC9-B8D8-C5349583092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000" spc="-1" strike="noStrike">
                <a:solidFill>
                  <a:srgbClr val="000000"/>
                </a:solidFill>
                <a:latin typeface="Times New Roman"/>
              </a:rPr>
              <a:t>Comparing Pro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731880" y="1268280"/>
          <a:ext cx="7772400" cy="26337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27040"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8  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  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6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 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6 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1  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6 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4   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AFAA-910C-48C2-89FF-FBA26DED2F3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0760" y="163440"/>
            <a:ext cx="848052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blem</a:t>
            </a:r>
            <a:r>
              <a:rPr b="0" lang="en-TT" sz="2800" spc="-1" strike="noStrike">
                <a:solidFill>
                  <a:srgbClr val="000000"/>
                </a:solidFill>
                <a:latin typeface="Times New Roman"/>
              </a:rPr>
              <a:t> : Compare between the following projects according to the time and cost consumed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685800" y="1981080"/>
          <a:ext cx="3801960" cy="3840120"/>
        </p:xfrm>
        <a:graphic>
          <a:graphicData uri="http://schemas.openxmlformats.org/drawingml/2006/table">
            <a:tbl>
              <a:tblPr/>
              <a:tblGrid>
                <a:gridCol w="952560"/>
                <a:gridCol w="949320"/>
                <a:gridCol w="950760"/>
                <a:gridCol w="949320"/>
              </a:tblGrid>
              <a:tr h="768600"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dg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u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com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4651200" y="1981080"/>
          <a:ext cx="3800520" cy="3934080"/>
        </p:xfrm>
        <a:graphic>
          <a:graphicData uri="http://schemas.openxmlformats.org/drawingml/2006/table">
            <a:tbl>
              <a:tblPr/>
              <a:tblGrid>
                <a:gridCol w="952560"/>
                <a:gridCol w="949320"/>
                <a:gridCol w="949320"/>
                <a:gridCol w="949320"/>
              </a:tblGrid>
              <a:tr h="768240"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dg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u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com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20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Text Box 67"/>
          <p:cNvSpPr/>
          <p:nvPr/>
        </p:nvSpPr>
        <p:spPr>
          <a:xfrm>
            <a:off x="1290600" y="1424160"/>
            <a:ext cx="19209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TT" sz="2600" spc="-1" strike="noStrike">
                <a:solidFill>
                  <a:srgbClr val="000000"/>
                </a:solidFill>
                <a:latin typeface="Arial Narrow"/>
              </a:rPr>
              <a:t>Project 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68"/>
          <p:cNvSpPr/>
          <p:nvPr/>
        </p:nvSpPr>
        <p:spPr>
          <a:xfrm>
            <a:off x="5692680" y="1424160"/>
            <a:ext cx="19209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TT" sz="2600" spc="-1" strike="noStrike">
                <a:solidFill>
                  <a:srgbClr val="000000"/>
                </a:solidFill>
                <a:latin typeface="Arial Narrow"/>
              </a:rPr>
              <a:t>Project 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69"/>
          <p:cNvSpPr/>
          <p:nvPr/>
        </p:nvSpPr>
        <p:spPr>
          <a:xfrm flipV="1">
            <a:off x="4648320" y="5486400"/>
            <a:ext cx="3809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7A10-17E5-497B-9AD6-2617F42061C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6796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0760" y="1191960"/>
            <a:ext cx="804708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: is the process of converting a project action plan into an operating tim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scheduling ? To answer the following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ach activity goes according to plan , then when will the project be comple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asks are most critical to ensure the timely completion of the proj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asks can be delayed , if necessary , without delaying project completion and by how mu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specifically , at what times should each activity begin and e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ny given time during the project, how much money should have been sp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worthwhile to incur extra costs to accelerate some of the activities? If so, then which on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388F-D59B-4612-A2C8-96C7DA9B52E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ful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838080" y="1981080"/>
            <a:ext cx="777240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ccessful project is one which achieves the following objec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d O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d Within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s Performance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Disruption of the Main Work of the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Utilization of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C260-7887-45A0-82FA-62571227696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T/CPM is based on a diagram that represents the entire project as a network of arrows and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st popular approaches ar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A : activity on arrow ( PERT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N : activity on node   ( CPM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098F-10D5-40ED-ACB1-94E3CC77E9F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twork is a form of project representation schemes that use arrows and nodes to represent activities and their relation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"/>
          <p:cNvSpPr/>
          <p:nvPr/>
        </p:nvSpPr>
        <p:spPr>
          <a:xfrm>
            <a:off x="1763640" y="4437000"/>
            <a:ext cx="936720" cy="936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5"/>
          <p:cNvSpPr/>
          <p:nvPr/>
        </p:nvSpPr>
        <p:spPr>
          <a:xfrm>
            <a:off x="4788000" y="4437000"/>
            <a:ext cx="936360" cy="936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2700360" y="4941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CE4E-1AAA-4756-A357-AA9AF8B85E5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constructing a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ow represents the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les represents time event ( start, fini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activity can be represented by one arro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ctivities having no predecessor should start at the same “start node” of the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ctivities having no successors should finish in one “finish node” in the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nodes can only represent one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10AE-C6B1-42D1-99D4-6316871F468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2" descr="NETAOA2"/>
          <p:cNvPicPr/>
          <p:nvPr/>
        </p:nvPicPr>
        <p:blipFill>
          <a:blip r:embed="rId1"/>
          <a:stretch/>
        </p:blipFill>
        <p:spPr>
          <a:xfrm>
            <a:off x="611280" y="981000"/>
            <a:ext cx="8064360" cy="5275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3"/>
          <p:cNvSpPr/>
          <p:nvPr/>
        </p:nvSpPr>
        <p:spPr>
          <a:xfrm>
            <a:off x="755640" y="260280"/>
            <a:ext cx="784872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 for constructing a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F75F-AFB3-4A00-A962-80B5E6AC828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Path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Start ( 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Finish ( EF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arliest possible start time of an activity leaving  a node equals the maximum of the early finish time of all activities entering that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 = ES + d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F029-B496-4F04-8703-B0EDEBD5F8F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ward Path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 Finish ( LF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 Start ( L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test possible finish time of an activity entering a node equals the minimum of the late start time of all activities leaving that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 = LF - d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013D-C68F-4649-8B38-61DD4104409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questions must be answered to begin modeling proces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major project activ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sequencing requirements or constraints for these activ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activities can be conducted simultaneou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estimated time requirements for each activ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F1AB-9F3A-4C41-8F19-12AF06F6560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timating the duration of project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ngth of each activity should be approximately in the range 0.5% to 2% of the length of the project.( 1 year -&gt; between a day and wee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activities is very large ( above 250 ) then the project should be divided into subpro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CC72-6F6D-4B20-B477-F57E1F05361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approaches are used for estimating the length of a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2120" y="1423800"/>
            <a:ext cx="796608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 exis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ar appro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chmark job technique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ric technique ( cause-effect analysis , reg. analysi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hastic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time estimation for an activity depend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Optimistic time : which will be required if execution goes extremely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most likely time, which will be required if execution i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pessimistic time , which will be required if everything goes ba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(A) = ( a + 4 m + b ) /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6471-5B00-4359-803E-865748DEC27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ce Between PERT and CP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T used the arrow to represent an activity and CPM used the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T used three estimates ( Opti, Pess. and Most likely ) of an activity’s required time, whereas CPM used just a single, best-time esti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72F7-6CE4-491D-96FC-6064BA83D73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iple Play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2597040" y="2216160"/>
            <a:ext cx="3721320" cy="3187800"/>
          </a:xfrm>
          <a:prstGeom prst="triangle">
            <a:avLst>
              <a:gd name="adj" fmla="val 49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Britannic Bold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696760" y="3414600"/>
            <a:ext cx="88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ritannic Bold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5434920" y="3414600"/>
            <a:ext cx="81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ritannic Bold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337560" y="5396040"/>
            <a:ext cx="204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ritannic Bold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329F-85A6-4A2F-B6EC-B6BEE6487BB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p Level Project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87360" y="2063880"/>
            <a:ext cx="2882880" cy="1282680"/>
          </a:xfrm>
          <a:prstGeom prst="rect">
            <a:avLst/>
          </a:prstGeom>
          <a:gradFill rotWithShape="0">
            <a:gsLst>
              <a:gs pos="0">
                <a:srgbClr val="c0fef9"/>
              </a:gs>
              <a:gs pos="100000">
                <a:srgbClr val="9acbc7"/>
              </a:gs>
            </a:gsLst>
            <a:lin ang="27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inst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387360" y="4044960"/>
            <a:ext cx="2882880" cy="1282680"/>
          </a:xfrm>
          <a:prstGeom prst="rect">
            <a:avLst/>
          </a:prstGeom>
          <a:gradFill rotWithShape="0">
            <a:gsLst>
              <a:gs pos="0">
                <a:srgbClr val="c0fef9"/>
              </a:gs>
              <a:gs pos="100000">
                <a:srgbClr val="9acbc7"/>
              </a:gs>
            </a:gsLst>
            <a:lin ang="27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abl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Object 5"/>
          <p:cNvGraphicFramePr/>
          <p:nvPr/>
        </p:nvGraphicFramePr>
        <p:xfrm>
          <a:off x="5703840" y="1752480"/>
          <a:ext cx="2562120" cy="16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03840" y="1752480"/>
                    <a:ext cx="2562120" cy="16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AutoShape 6"/>
          <p:cNvSpPr/>
          <p:nvPr/>
        </p:nvSpPr>
        <p:spPr>
          <a:xfrm flipH="1">
            <a:off x="3663360" y="2292480"/>
            <a:ext cx="1663560" cy="520560"/>
          </a:xfrm>
          <a:prstGeom prst="rightArrow">
            <a:avLst>
              <a:gd name="adj1" fmla="val 50000"/>
              <a:gd name="adj2" fmla="val 1598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7"/>
          <p:cNvSpPr/>
          <p:nvPr/>
        </p:nvSpPr>
        <p:spPr>
          <a:xfrm>
            <a:off x="4654440" y="4425840"/>
            <a:ext cx="520920" cy="520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0073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8"/>
          <p:cNvSpPr/>
          <p:nvPr/>
        </p:nvSpPr>
        <p:spPr>
          <a:xfrm>
            <a:off x="5568840" y="4121280"/>
            <a:ext cx="520920" cy="520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0073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9"/>
          <p:cNvSpPr/>
          <p:nvPr/>
        </p:nvSpPr>
        <p:spPr>
          <a:xfrm>
            <a:off x="6483240" y="3816360"/>
            <a:ext cx="520920" cy="520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0073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10"/>
          <p:cNvSpPr/>
          <p:nvPr/>
        </p:nvSpPr>
        <p:spPr>
          <a:xfrm>
            <a:off x="6254640" y="4959360"/>
            <a:ext cx="520920" cy="520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0073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7245360" y="4959360"/>
            <a:ext cx="520560" cy="520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0073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8236080" y="4959360"/>
            <a:ext cx="520560" cy="520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0073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8464680" y="4121280"/>
            <a:ext cx="520560" cy="520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0073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4"/>
          <p:cNvSpPr/>
          <p:nvPr/>
        </p:nvSpPr>
        <p:spPr>
          <a:xfrm flipV="1">
            <a:off x="5187960" y="4412880"/>
            <a:ext cx="36828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5"/>
          <p:cNvSpPr/>
          <p:nvPr/>
        </p:nvSpPr>
        <p:spPr>
          <a:xfrm flipV="1">
            <a:off x="6102360" y="4184280"/>
            <a:ext cx="368280" cy="8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5950080" y="4654440"/>
            <a:ext cx="44424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6788160" y="5257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7778880" y="525780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9"/>
          <p:cNvSpPr/>
          <p:nvPr/>
        </p:nvSpPr>
        <p:spPr>
          <a:xfrm>
            <a:off x="7016760" y="4044960"/>
            <a:ext cx="143496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20"/>
          <p:cNvSpPr/>
          <p:nvPr/>
        </p:nvSpPr>
        <p:spPr>
          <a:xfrm flipV="1">
            <a:off x="8540640" y="4641840"/>
            <a:ext cx="13968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21"/>
          <p:cNvSpPr/>
          <p:nvPr/>
        </p:nvSpPr>
        <p:spPr>
          <a:xfrm>
            <a:off x="3511440" y="4425840"/>
            <a:ext cx="1054080" cy="444600"/>
          </a:xfrm>
          <a:prstGeom prst="rightArrow">
            <a:avLst>
              <a:gd name="adj1" fmla="val 50000"/>
              <a:gd name="adj2" fmla="val 11855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826C-BFD7-475E-8FFD-94D74F3DA5B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e Top Level Task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o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1316520" y="2036880"/>
            <a:ext cx="4444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Site 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Build D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Build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Finish and Ready for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8442-5EC2-454D-8275-C48A33AF921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Top Level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3"/>
          <p:cNvSpPr/>
          <p:nvPr/>
        </p:nvSpPr>
        <p:spPr>
          <a:xfrm>
            <a:off x="311040" y="328284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996840" y="365760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5"/>
          <p:cNvSpPr/>
          <p:nvPr/>
        </p:nvSpPr>
        <p:spPr>
          <a:xfrm>
            <a:off x="3054240" y="328284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6"/>
          <p:cNvSpPr/>
          <p:nvPr/>
        </p:nvSpPr>
        <p:spPr>
          <a:xfrm>
            <a:off x="5797440" y="328284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7"/>
          <p:cNvSpPr/>
          <p:nvPr/>
        </p:nvSpPr>
        <p:spPr>
          <a:xfrm>
            <a:off x="6483240" y="365760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8"/>
          <p:cNvSpPr/>
          <p:nvPr/>
        </p:nvSpPr>
        <p:spPr>
          <a:xfrm>
            <a:off x="8236080" y="3282840"/>
            <a:ext cx="67284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920160" y="3247920"/>
            <a:ext cx="1912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Site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3740040" y="2901960"/>
            <a:ext cx="2044800" cy="1359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1"/>
          <p:cNvSpPr/>
          <p:nvPr/>
        </p:nvSpPr>
        <p:spPr>
          <a:xfrm flipH="1" flipV="1">
            <a:off x="5708160" y="3270240"/>
            <a:ext cx="88920" cy="241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2"/>
          <p:cNvSpPr/>
          <p:nvPr/>
        </p:nvSpPr>
        <p:spPr>
          <a:xfrm flipH="1">
            <a:off x="5632560" y="3664080"/>
            <a:ext cx="164880" cy="291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4052520" y="2540160"/>
            <a:ext cx="1455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Build D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4"/>
          <p:cNvSpPr/>
          <p:nvPr/>
        </p:nvSpPr>
        <p:spPr>
          <a:xfrm>
            <a:off x="3871440" y="4216320"/>
            <a:ext cx="1848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Build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5"/>
          <p:cNvSpPr/>
          <p:nvPr/>
        </p:nvSpPr>
        <p:spPr>
          <a:xfrm>
            <a:off x="6886800" y="3225960"/>
            <a:ext cx="88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C415-0834-4D31-A399-700B83E0EF2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9144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3"/>
          <p:cNvSpPr/>
          <p:nvPr/>
        </p:nvSpPr>
        <p:spPr>
          <a:xfrm>
            <a:off x="235080" y="3054240"/>
            <a:ext cx="749160" cy="749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4"/>
          <p:cNvSpPr/>
          <p:nvPr/>
        </p:nvSpPr>
        <p:spPr>
          <a:xfrm>
            <a:off x="2444760" y="2216160"/>
            <a:ext cx="749160" cy="7491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5"/>
          <p:cNvSpPr/>
          <p:nvPr/>
        </p:nvSpPr>
        <p:spPr>
          <a:xfrm>
            <a:off x="5035680" y="1530360"/>
            <a:ext cx="749160" cy="7491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"/>
          <p:cNvSpPr/>
          <p:nvPr/>
        </p:nvSpPr>
        <p:spPr>
          <a:xfrm>
            <a:off x="4425840" y="3892680"/>
            <a:ext cx="749520" cy="7491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7"/>
          <p:cNvSpPr/>
          <p:nvPr/>
        </p:nvSpPr>
        <p:spPr>
          <a:xfrm>
            <a:off x="6407280" y="3892680"/>
            <a:ext cx="749160" cy="7491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8"/>
          <p:cNvSpPr/>
          <p:nvPr/>
        </p:nvSpPr>
        <p:spPr>
          <a:xfrm>
            <a:off x="8007480" y="3892680"/>
            <a:ext cx="749160" cy="7491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9"/>
          <p:cNvSpPr/>
          <p:nvPr/>
        </p:nvSpPr>
        <p:spPr>
          <a:xfrm>
            <a:off x="8312040" y="1987560"/>
            <a:ext cx="749520" cy="7491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"/>
          <p:cNvSpPr/>
          <p:nvPr/>
        </p:nvSpPr>
        <p:spPr>
          <a:xfrm flipV="1">
            <a:off x="996840" y="2736360"/>
            <a:ext cx="151128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1"/>
          <p:cNvSpPr/>
          <p:nvPr/>
        </p:nvSpPr>
        <p:spPr>
          <a:xfrm flipV="1">
            <a:off x="3206880" y="1974600"/>
            <a:ext cx="181584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2"/>
          <p:cNvSpPr/>
          <p:nvPr/>
        </p:nvSpPr>
        <p:spPr>
          <a:xfrm>
            <a:off x="3054240" y="2901960"/>
            <a:ext cx="1435320" cy="12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3"/>
          <p:cNvSpPr/>
          <p:nvPr/>
        </p:nvSpPr>
        <p:spPr>
          <a:xfrm>
            <a:off x="5797440" y="1911240"/>
            <a:ext cx="250200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4"/>
          <p:cNvSpPr/>
          <p:nvPr/>
        </p:nvSpPr>
        <p:spPr>
          <a:xfrm>
            <a:off x="5187960" y="43434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5"/>
          <p:cNvSpPr/>
          <p:nvPr/>
        </p:nvSpPr>
        <p:spPr>
          <a:xfrm>
            <a:off x="7169040" y="42670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6"/>
          <p:cNvSpPr/>
          <p:nvPr/>
        </p:nvSpPr>
        <p:spPr>
          <a:xfrm flipV="1">
            <a:off x="8388360" y="2736360"/>
            <a:ext cx="216000" cy="115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7"/>
          <p:cNvSpPr/>
          <p:nvPr/>
        </p:nvSpPr>
        <p:spPr>
          <a:xfrm>
            <a:off x="615960" y="2292480"/>
            <a:ext cx="216000" cy="215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18"/>
          <p:cNvSpPr/>
          <p:nvPr/>
        </p:nvSpPr>
        <p:spPr>
          <a:xfrm>
            <a:off x="1073160" y="1835280"/>
            <a:ext cx="216000" cy="215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19"/>
          <p:cNvSpPr/>
          <p:nvPr/>
        </p:nvSpPr>
        <p:spPr>
          <a:xfrm>
            <a:off x="1454040" y="1378080"/>
            <a:ext cx="216000" cy="215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20"/>
          <p:cNvSpPr/>
          <p:nvPr/>
        </p:nvSpPr>
        <p:spPr>
          <a:xfrm>
            <a:off x="1682640" y="1835280"/>
            <a:ext cx="216000" cy="215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21"/>
          <p:cNvSpPr/>
          <p:nvPr/>
        </p:nvSpPr>
        <p:spPr>
          <a:xfrm>
            <a:off x="2139840" y="1835280"/>
            <a:ext cx="216000" cy="215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22"/>
          <p:cNvSpPr/>
          <p:nvPr/>
        </p:nvSpPr>
        <p:spPr>
          <a:xfrm>
            <a:off x="1987560" y="1149480"/>
            <a:ext cx="216000" cy="215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23"/>
          <p:cNvSpPr/>
          <p:nvPr/>
        </p:nvSpPr>
        <p:spPr>
          <a:xfrm>
            <a:off x="2521080" y="1454040"/>
            <a:ext cx="215640" cy="216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24"/>
          <p:cNvSpPr/>
          <p:nvPr/>
        </p:nvSpPr>
        <p:spPr>
          <a:xfrm flipV="1">
            <a:off x="768240" y="1974600"/>
            <a:ext cx="368280" cy="39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25"/>
          <p:cNvSpPr/>
          <p:nvPr/>
        </p:nvSpPr>
        <p:spPr>
          <a:xfrm>
            <a:off x="1301760" y="19810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26"/>
          <p:cNvSpPr/>
          <p:nvPr/>
        </p:nvSpPr>
        <p:spPr>
          <a:xfrm flipV="1">
            <a:off x="1225440" y="1517760"/>
            <a:ext cx="29232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7"/>
          <p:cNvSpPr/>
          <p:nvPr/>
        </p:nvSpPr>
        <p:spPr>
          <a:xfrm flipV="1">
            <a:off x="1682640" y="1364760"/>
            <a:ext cx="292320" cy="8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8"/>
          <p:cNvSpPr/>
          <p:nvPr/>
        </p:nvSpPr>
        <p:spPr>
          <a:xfrm>
            <a:off x="2216160" y="1301760"/>
            <a:ext cx="29196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9"/>
          <p:cNvSpPr/>
          <p:nvPr/>
        </p:nvSpPr>
        <p:spPr>
          <a:xfrm>
            <a:off x="1911240" y="19810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30"/>
          <p:cNvSpPr/>
          <p:nvPr/>
        </p:nvSpPr>
        <p:spPr>
          <a:xfrm flipV="1">
            <a:off x="2368440" y="1670040"/>
            <a:ext cx="21600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31"/>
          <p:cNvSpPr/>
          <p:nvPr/>
        </p:nvSpPr>
        <p:spPr>
          <a:xfrm flipH="1">
            <a:off x="755280" y="2139840"/>
            <a:ext cx="546120" cy="901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32"/>
          <p:cNvSpPr/>
          <p:nvPr/>
        </p:nvSpPr>
        <p:spPr>
          <a:xfrm>
            <a:off x="517680" y="793800"/>
            <a:ext cx="1042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Oval 33"/>
          <p:cNvSpPr/>
          <p:nvPr/>
        </p:nvSpPr>
        <p:spPr>
          <a:xfrm>
            <a:off x="1225440" y="4959360"/>
            <a:ext cx="29232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Oval 34"/>
          <p:cNvSpPr/>
          <p:nvPr/>
        </p:nvSpPr>
        <p:spPr>
          <a:xfrm>
            <a:off x="1835280" y="49593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Oval 35"/>
          <p:cNvSpPr/>
          <p:nvPr/>
        </p:nvSpPr>
        <p:spPr>
          <a:xfrm>
            <a:off x="2444760" y="49593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36"/>
          <p:cNvSpPr/>
          <p:nvPr/>
        </p:nvSpPr>
        <p:spPr>
          <a:xfrm>
            <a:off x="2444760" y="56451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37"/>
          <p:cNvSpPr/>
          <p:nvPr/>
        </p:nvSpPr>
        <p:spPr>
          <a:xfrm>
            <a:off x="3130560" y="56451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38"/>
          <p:cNvSpPr/>
          <p:nvPr/>
        </p:nvSpPr>
        <p:spPr>
          <a:xfrm>
            <a:off x="3816360" y="56451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39"/>
          <p:cNvSpPr/>
          <p:nvPr/>
        </p:nvSpPr>
        <p:spPr>
          <a:xfrm>
            <a:off x="1530360" y="51055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40"/>
          <p:cNvSpPr/>
          <p:nvPr/>
        </p:nvSpPr>
        <p:spPr>
          <a:xfrm>
            <a:off x="2139840" y="510552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41"/>
          <p:cNvSpPr/>
          <p:nvPr/>
        </p:nvSpPr>
        <p:spPr>
          <a:xfrm>
            <a:off x="2063880" y="5264280"/>
            <a:ext cx="36828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42"/>
          <p:cNvSpPr/>
          <p:nvPr/>
        </p:nvSpPr>
        <p:spPr>
          <a:xfrm>
            <a:off x="2749680" y="5187960"/>
            <a:ext cx="44424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43"/>
          <p:cNvSpPr/>
          <p:nvPr/>
        </p:nvSpPr>
        <p:spPr>
          <a:xfrm>
            <a:off x="3435480" y="57913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44"/>
          <p:cNvSpPr/>
          <p:nvPr/>
        </p:nvSpPr>
        <p:spPr>
          <a:xfrm>
            <a:off x="2749680" y="57913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45"/>
          <p:cNvSpPr/>
          <p:nvPr/>
        </p:nvSpPr>
        <p:spPr>
          <a:xfrm flipV="1">
            <a:off x="2292480" y="2964960"/>
            <a:ext cx="520560" cy="19177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46"/>
          <p:cNvSpPr/>
          <p:nvPr/>
        </p:nvSpPr>
        <p:spPr>
          <a:xfrm>
            <a:off x="746280" y="5594400"/>
            <a:ext cx="1042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47"/>
          <p:cNvSpPr/>
          <p:nvPr/>
        </p:nvSpPr>
        <p:spPr>
          <a:xfrm>
            <a:off x="5236920" y="5137200"/>
            <a:ext cx="2732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Work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A50B-4B15-4836-B10A-1E92812697D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instorm Sub-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12600" y="1701720"/>
            <a:ext cx="899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Site Preparation</a:t>
            </a: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            Build Dock              Build Building           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615960" y="2292480"/>
            <a:ext cx="189216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ock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615960" y="3359160"/>
            <a:ext cx="189216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uilding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2978280" y="2292480"/>
            <a:ext cx="189216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nstall Pil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2978280" y="3359160"/>
            <a:ext cx="189216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uild D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5187960" y="2292480"/>
            <a:ext cx="1892160" cy="520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un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5187960" y="2978280"/>
            <a:ext cx="1892160" cy="444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0"/>
          <p:cNvSpPr/>
          <p:nvPr/>
        </p:nvSpPr>
        <p:spPr>
          <a:xfrm>
            <a:off x="5187960" y="3587760"/>
            <a:ext cx="18921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o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1"/>
          <p:cNvSpPr/>
          <p:nvPr/>
        </p:nvSpPr>
        <p:spPr>
          <a:xfrm>
            <a:off x="5187960" y="4197240"/>
            <a:ext cx="18921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2"/>
          <p:cNvSpPr/>
          <p:nvPr/>
        </p:nvSpPr>
        <p:spPr>
          <a:xfrm>
            <a:off x="5187960" y="4883040"/>
            <a:ext cx="18921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3"/>
          <p:cNvSpPr/>
          <p:nvPr/>
        </p:nvSpPr>
        <p:spPr>
          <a:xfrm>
            <a:off x="5187960" y="5645160"/>
            <a:ext cx="18921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7321680" y="2292480"/>
            <a:ext cx="166356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rder Can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5"/>
          <p:cNvSpPr/>
          <p:nvPr/>
        </p:nvSpPr>
        <p:spPr>
          <a:xfrm>
            <a:off x="7321680" y="3130560"/>
            <a:ext cx="166356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6"/>
          <p:cNvSpPr/>
          <p:nvPr/>
        </p:nvSpPr>
        <p:spPr>
          <a:xfrm>
            <a:off x="7321680" y="4121280"/>
            <a:ext cx="166356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ssem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an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7"/>
          <p:cNvSpPr/>
          <p:nvPr/>
        </p:nvSpPr>
        <p:spPr>
          <a:xfrm>
            <a:off x="7321680" y="4959360"/>
            <a:ext cx="166356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pen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36E7-08DA-4998-9B6D-1B6495E644B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Breakdown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3206880" y="1454040"/>
            <a:ext cx="2654280" cy="9781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00b"/>
                </a:solidFill>
                <a:latin typeface="Times New Roman"/>
              </a:rPr>
              <a:t>Top Level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768240" y="2901960"/>
            <a:ext cx="1359000" cy="97776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00b"/>
                </a:solidFill>
                <a:latin typeface="Times New Roman"/>
              </a:rPr>
              <a:t>2nd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901960" y="2901960"/>
            <a:ext cx="1359000" cy="97776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00b"/>
                </a:solidFill>
                <a:latin typeface="Times New Roman"/>
              </a:rPr>
              <a:t>2nd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5035680" y="2901960"/>
            <a:ext cx="1358640" cy="97776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00b"/>
                </a:solidFill>
                <a:latin typeface="Times New Roman"/>
              </a:rPr>
              <a:t>2nd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7169040" y="2901960"/>
            <a:ext cx="1359000" cy="97776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00b"/>
                </a:solidFill>
                <a:latin typeface="Times New Roman"/>
              </a:rPr>
              <a:t>2nd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8"/>
          <p:cNvSpPr/>
          <p:nvPr/>
        </p:nvSpPr>
        <p:spPr>
          <a:xfrm>
            <a:off x="235080" y="4197240"/>
            <a:ext cx="901440" cy="5209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3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9"/>
          <p:cNvSpPr/>
          <p:nvPr/>
        </p:nvSpPr>
        <p:spPr>
          <a:xfrm>
            <a:off x="1454040" y="4197240"/>
            <a:ext cx="901800" cy="5209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3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0"/>
          <p:cNvSpPr/>
          <p:nvPr/>
        </p:nvSpPr>
        <p:spPr>
          <a:xfrm>
            <a:off x="2063880" y="5568840"/>
            <a:ext cx="901440" cy="5209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3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1"/>
          <p:cNvSpPr/>
          <p:nvPr/>
        </p:nvSpPr>
        <p:spPr>
          <a:xfrm>
            <a:off x="3206880" y="5568840"/>
            <a:ext cx="901440" cy="5209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3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2"/>
          <p:cNvSpPr/>
          <p:nvPr/>
        </p:nvSpPr>
        <p:spPr>
          <a:xfrm>
            <a:off x="4349880" y="5568840"/>
            <a:ext cx="901440" cy="5209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3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"/>
          <p:cNvSpPr/>
          <p:nvPr/>
        </p:nvSpPr>
        <p:spPr>
          <a:xfrm>
            <a:off x="4502160" y="4273560"/>
            <a:ext cx="901800" cy="52056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3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4"/>
          <p:cNvSpPr/>
          <p:nvPr/>
        </p:nvSpPr>
        <p:spPr>
          <a:xfrm>
            <a:off x="5645160" y="4273560"/>
            <a:ext cx="901800" cy="52056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3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5"/>
          <p:cNvSpPr/>
          <p:nvPr/>
        </p:nvSpPr>
        <p:spPr>
          <a:xfrm>
            <a:off x="6940440" y="5568840"/>
            <a:ext cx="901800" cy="5209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3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6"/>
          <p:cNvSpPr/>
          <p:nvPr/>
        </p:nvSpPr>
        <p:spPr>
          <a:xfrm>
            <a:off x="8083440" y="5568840"/>
            <a:ext cx="901800" cy="5209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3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7"/>
          <p:cNvSpPr/>
          <p:nvPr/>
        </p:nvSpPr>
        <p:spPr>
          <a:xfrm>
            <a:off x="82440" y="5340240"/>
            <a:ext cx="368280" cy="2160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8"/>
          <p:cNvSpPr/>
          <p:nvPr/>
        </p:nvSpPr>
        <p:spPr>
          <a:xfrm>
            <a:off x="539640" y="5340240"/>
            <a:ext cx="368280" cy="2160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9"/>
          <p:cNvSpPr/>
          <p:nvPr/>
        </p:nvSpPr>
        <p:spPr>
          <a:xfrm>
            <a:off x="996840" y="5340240"/>
            <a:ext cx="368280" cy="2160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0"/>
          <p:cNvSpPr/>
          <p:nvPr/>
        </p:nvSpPr>
        <p:spPr>
          <a:xfrm>
            <a:off x="5492880" y="5264280"/>
            <a:ext cx="368280" cy="21564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1"/>
          <p:cNvSpPr/>
          <p:nvPr/>
        </p:nvSpPr>
        <p:spPr>
          <a:xfrm>
            <a:off x="5950080" y="5264280"/>
            <a:ext cx="368280" cy="21564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22"/>
          <p:cNvSpPr/>
          <p:nvPr/>
        </p:nvSpPr>
        <p:spPr>
          <a:xfrm>
            <a:off x="6407280" y="5264280"/>
            <a:ext cx="368280" cy="21564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23"/>
          <p:cNvSpPr/>
          <p:nvPr/>
        </p:nvSpPr>
        <p:spPr>
          <a:xfrm>
            <a:off x="1835280" y="6559560"/>
            <a:ext cx="368280" cy="2160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24"/>
          <p:cNvSpPr/>
          <p:nvPr/>
        </p:nvSpPr>
        <p:spPr>
          <a:xfrm>
            <a:off x="2292480" y="6559560"/>
            <a:ext cx="368280" cy="2160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5"/>
          <p:cNvSpPr/>
          <p:nvPr/>
        </p:nvSpPr>
        <p:spPr>
          <a:xfrm>
            <a:off x="2749680" y="6559560"/>
            <a:ext cx="368280" cy="2160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26"/>
          <p:cNvSpPr/>
          <p:nvPr/>
        </p:nvSpPr>
        <p:spPr>
          <a:xfrm>
            <a:off x="6788160" y="6559560"/>
            <a:ext cx="368280" cy="2160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7"/>
          <p:cNvSpPr/>
          <p:nvPr/>
        </p:nvSpPr>
        <p:spPr>
          <a:xfrm>
            <a:off x="7245360" y="6559560"/>
            <a:ext cx="368280" cy="2160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8"/>
          <p:cNvSpPr/>
          <p:nvPr/>
        </p:nvSpPr>
        <p:spPr>
          <a:xfrm>
            <a:off x="7702560" y="6559560"/>
            <a:ext cx="368280" cy="2160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795840" y="6400800"/>
            <a:ext cx="1828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Lower Level Tas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4572000" y="2444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31"/>
          <p:cNvSpPr/>
          <p:nvPr/>
        </p:nvSpPr>
        <p:spPr>
          <a:xfrm>
            <a:off x="1454040" y="2666880"/>
            <a:ext cx="638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32"/>
          <p:cNvSpPr/>
          <p:nvPr/>
        </p:nvSpPr>
        <p:spPr>
          <a:xfrm>
            <a:off x="1447920" y="2673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33"/>
          <p:cNvSpPr/>
          <p:nvPr/>
        </p:nvSpPr>
        <p:spPr>
          <a:xfrm>
            <a:off x="7848720" y="2673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34"/>
          <p:cNvSpPr/>
          <p:nvPr/>
        </p:nvSpPr>
        <p:spPr>
          <a:xfrm>
            <a:off x="5715000" y="2673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35"/>
          <p:cNvSpPr/>
          <p:nvPr/>
        </p:nvSpPr>
        <p:spPr>
          <a:xfrm>
            <a:off x="3581280" y="2673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36"/>
          <p:cNvSpPr/>
          <p:nvPr/>
        </p:nvSpPr>
        <p:spPr>
          <a:xfrm>
            <a:off x="1371600" y="3892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37"/>
          <p:cNvSpPr/>
          <p:nvPr/>
        </p:nvSpPr>
        <p:spPr>
          <a:xfrm>
            <a:off x="692280" y="403848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38"/>
          <p:cNvSpPr/>
          <p:nvPr/>
        </p:nvSpPr>
        <p:spPr>
          <a:xfrm>
            <a:off x="685800" y="4044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39"/>
          <p:cNvSpPr/>
          <p:nvPr/>
        </p:nvSpPr>
        <p:spPr>
          <a:xfrm>
            <a:off x="1981080" y="4044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40"/>
          <p:cNvSpPr/>
          <p:nvPr/>
        </p:nvSpPr>
        <p:spPr>
          <a:xfrm>
            <a:off x="3657600" y="3892680"/>
            <a:ext cx="0" cy="143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41"/>
          <p:cNvSpPr/>
          <p:nvPr/>
        </p:nvSpPr>
        <p:spPr>
          <a:xfrm>
            <a:off x="2444760" y="5334120"/>
            <a:ext cx="234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42"/>
          <p:cNvSpPr/>
          <p:nvPr/>
        </p:nvSpPr>
        <p:spPr>
          <a:xfrm>
            <a:off x="2438280" y="5340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43"/>
          <p:cNvSpPr/>
          <p:nvPr/>
        </p:nvSpPr>
        <p:spPr>
          <a:xfrm>
            <a:off x="3657600" y="5340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44"/>
          <p:cNvSpPr/>
          <p:nvPr/>
        </p:nvSpPr>
        <p:spPr>
          <a:xfrm>
            <a:off x="4800600" y="5340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5"/>
          <p:cNvSpPr/>
          <p:nvPr/>
        </p:nvSpPr>
        <p:spPr>
          <a:xfrm>
            <a:off x="5715000" y="3892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46"/>
          <p:cNvSpPr/>
          <p:nvPr/>
        </p:nvSpPr>
        <p:spPr>
          <a:xfrm>
            <a:off x="5035680" y="403848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47"/>
          <p:cNvSpPr/>
          <p:nvPr/>
        </p:nvSpPr>
        <p:spPr>
          <a:xfrm>
            <a:off x="5029200" y="40449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48"/>
          <p:cNvSpPr/>
          <p:nvPr/>
        </p:nvSpPr>
        <p:spPr>
          <a:xfrm>
            <a:off x="6324480" y="40449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49"/>
          <p:cNvSpPr/>
          <p:nvPr/>
        </p:nvSpPr>
        <p:spPr>
          <a:xfrm>
            <a:off x="7848720" y="38926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50"/>
          <p:cNvSpPr/>
          <p:nvPr/>
        </p:nvSpPr>
        <p:spPr>
          <a:xfrm>
            <a:off x="7397640" y="525780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51"/>
          <p:cNvSpPr/>
          <p:nvPr/>
        </p:nvSpPr>
        <p:spPr>
          <a:xfrm>
            <a:off x="7391520" y="52642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8458200" y="52642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762120" y="4730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54"/>
          <p:cNvSpPr/>
          <p:nvPr/>
        </p:nvSpPr>
        <p:spPr>
          <a:xfrm>
            <a:off x="311040" y="50292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55"/>
          <p:cNvSpPr/>
          <p:nvPr/>
        </p:nvSpPr>
        <p:spPr>
          <a:xfrm>
            <a:off x="6095880" y="48070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56"/>
          <p:cNvSpPr/>
          <p:nvPr/>
        </p:nvSpPr>
        <p:spPr>
          <a:xfrm>
            <a:off x="304920" y="5035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762120" y="5035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5721480" y="51055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59"/>
          <p:cNvSpPr/>
          <p:nvPr/>
        </p:nvSpPr>
        <p:spPr>
          <a:xfrm>
            <a:off x="1143000" y="5035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5715000" y="5111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5867280" y="5264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6095880" y="5111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6553080" y="5111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7391520" y="6102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7016760" y="6400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7010280" y="6407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7391520" y="6407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7848720" y="6407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7162920" y="65595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70"/>
          <p:cNvSpPr/>
          <p:nvPr/>
        </p:nvSpPr>
        <p:spPr>
          <a:xfrm>
            <a:off x="7162920" y="65595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2438280" y="6102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2063880" y="6400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73"/>
          <p:cNvSpPr/>
          <p:nvPr/>
        </p:nvSpPr>
        <p:spPr>
          <a:xfrm>
            <a:off x="2057400" y="6407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2438280" y="6407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2895480" y="6407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5797440" y="6559560"/>
            <a:ext cx="74952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77"/>
          <p:cNvSpPr/>
          <p:nvPr/>
        </p:nvSpPr>
        <p:spPr>
          <a:xfrm flipH="1">
            <a:off x="3269880" y="6559560"/>
            <a:ext cx="469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55AA-0C1A-4715-87DC-3C9D253159C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Sub-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535320" y="1274760"/>
            <a:ext cx="816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Britannic Bold"/>
              </a:rPr>
              <a:t>Task</a:t>
            </a:r>
            <a:r>
              <a:rPr b="0" lang="en-US" sz="24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24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2400" spc="-1" strike="noStrike">
                <a:solidFill>
                  <a:srgbClr val="ff5008"/>
                </a:solidFill>
                <a:latin typeface="Britannic Bold"/>
              </a:rPr>
              <a:t>Description</a:t>
            </a:r>
            <a:r>
              <a:rPr b="0" lang="en-US" sz="24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24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2400" spc="-1" strike="noStrike">
                <a:solidFill>
                  <a:srgbClr val="ff5008"/>
                </a:solidFill>
                <a:latin typeface="Britannic Bold"/>
              </a:rPr>
              <a:t>Immediate Prede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4"/>
          <p:cNvSpPr/>
          <p:nvPr/>
        </p:nvSpPr>
        <p:spPr>
          <a:xfrm>
            <a:off x="698400" y="1752480"/>
            <a:ext cx="812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747360" y="1930320"/>
            <a:ext cx="68216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repare Dock Site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repare Hut Site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stall Dock Pilings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oundation for Hut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Build Dock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rame Hut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ower to Hut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ide the Hut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Roof the Hut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Order Canoes and Receive Canoes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K      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aint Hut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ssemble Canoes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inish Landscaping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L,I,K,E,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Open for Business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1BEE-9B2E-4128-95B0-727CF0C0A9B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85392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Activities on Arro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5380200" y="425448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6081840" y="407988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4B6D-5AF0-43C6-ACA0-F1BC019EC41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2"/>
          <p:cNvSpPr/>
          <p:nvPr/>
        </p:nvSpPr>
        <p:spPr>
          <a:xfrm>
            <a:off x="85392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6"/>
          <p:cNvSpPr/>
          <p:nvPr/>
        </p:nvSpPr>
        <p:spPr>
          <a:xfrm>
            <a:off x="92376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5380200" y="425448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6081840" y="407988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2C38-4DCF-4F1F-99E9-E1B55169D09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85392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92376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1"/>
          <p:cNvSpPr/>
          <p:nvPr/>
        </p:nvSpPr>
        <p:spPr>
          <a:xfrm>
            <a:off x="1613880" y="2279520"/>
            <a:ext cx="23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2"/>
          <p:cNvSpPr/>
          <p:nvPr/>
        </p:nvSpPr>
        <p:spPr>
          <a:xfrm>
            <a:off x="5380200" y="425448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3"/>
          <p:cNvSpPr/>
          <p:nvPr/>
        </p:nvSpPr>
        <p:spPr>
          <a:xfrm>
            <a:off x="6081840" y="407988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A3ED-1278-4533-B0B9-18483B19E20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ple Constraint Trade-of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3"/>
          <p:cNvSpPr/>
          <p:nvPr/>
        </p:nvSpPr>
        <p:spPr>
          <a:xfrm>
            <a:off x="1143000" y="1987560"/>
            <a:ext cx="0" cy="3568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1149480" y="556272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rc 5"/>
          <p:cNvSpPr/>
          <p:nvPr/>
        </p:nvSpPr>
        <p:spPr>
          <a:xfrm>
            <a:off x="2141640" y="2133720"/>
            <a:ext cx="4108320" cy="2889000"/>
          </a:xfrm>
          <a:custGeom>
            <a:avLst/>
            <a:gdLst>
              <a:gd name="textAreaLeft" fmla="*/ 0 w 4108320"/>
              <a:gd name="textAreaRight" fmla="*/ 4108680 w 4108320"/>
              <a:gd name="textAreaTop" fmla="*/ 0 h 2889000"/>
              <a:gd name="textAreaBottom" fmla="*/ 2889360 h 288900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1149480" y="3962520"/>
            <a:ext cx="18921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3048120" y="3968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145080" y="3765600"/>
            <a:ext cx="105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346480" y="5518080"/>
            <a:ext cx="126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494360" y="5540400"/>
            <a:ext cx="70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E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4378320" y="5540400"/>
            <a:ext cx="641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6552000" y="5548320"/>
            <a:ext cx="899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813240" y="150984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6054840" y="4603680"/>
            <a:ext cx="1949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Spec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3887280" y="3841920"/>
            <a:ext cx="92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B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3289320" y="4832280"/>
            <a:ext cx="941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Wo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17"/>
          <p:cNvSpPr/>
          <p:nvPr/>
        </p:nvSpPr>
        <p:spPr>
          <a:xfrm>
            <a:off x="4038480" y="4181400"/>
            <a:ext cx="501840" cy="392040"/>
          </a:xfrm>
          <a:custGeom>
            <a:avLst/>
            <a:gdLst>
              <a:gd name="textAreaLeft" fmla="*/ 0 w 501840"/>
              <a:gd name="textAreaRight" fmla="*/ 502200 w 50184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316" h="247">
                <a:moveTo>
                  <a:pt x="0" y="246"/>
                </a:moveTo>
                <a:lnTo>
                  <a:pt x="62" y="242"/>
                </a:lnTo>
                <a:lnTo>
                  <a:pt x="115" y="242"/>
                </a:lnTo>
                <a:lnTo>
                  <a:pt x="147" y="231"/>
                </a:lnTo>
                <a:lnTo>
                  <a:pt x="199" y="221"/>
                </a:lnTo>
                <a:lnTo>
                  <a:pt x="241" y="221"/>
                </a:lnTo>
                <a:lnTo>
                  <a:pt x="273" y="210"/>
                </a:lnTo>
                <a:lnTo>
                  <a:pt x="273" y="168"/>
                </a:lnTo>
                <a:lnTo>
                  <a:pt x="241" y="137"/>
                </a:lnTo>
                <a:lnTo>
                  <a:pt x="199" y="115"/>
                </a:lnTo>
                <a:lnTo>
                  <a:pt x="168" y="73"/>
                </a:lnTo>
                <a:lnTo>
                  <a:pt x="189" y="31"/>
                </a:lnTo>
                <a:lnTo>
                  <a:pt x="241" y="21"/>
                </a:lnTo>
                <a:lnTo>
                  <a:pt x="283" y="10"/>
                </a:lnTo>
                <a:lnTo>
                  <a:pt x="31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18"/>
          <p:cNvSpPr/>
          <p:nvPr/>
        </p:nvSpPr>
        <p:spPr>
          <a:xfrm>
            <a:off x="3386160" y="4495680"/>
            <a:ext cx="352440" cy="382680"/>
          </a:xfrm>
          <a:custGeom>
            <a:avLst/>
            <a:gdLst>
              <a:gd name="textAreaLeft" fmla="*/ 0 w 352440"/>
              <a:gd name="textAreaRight" fmla="*/ 352800 w 35244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222" h="241">
                <a:moveTo>
                  <a:pt x="219" y="240"/>
                </a:moveTo>
                <a:lnTo>
                  <a:pt x="168" y="223"/>
                </a:lnTo>
                <a:lnTo>
                  <a:pt x="136" y="202"/>
                </a:lnTo>
                <a:lnTo>
                  <a:pt x="73" y="160"/>
                </a:lnTo>
                <a:lnTo>
                  <a:pt x="42" y="128"/>
                </a:lnTo>
                <a:lnTo>
                  <a:pt x="10" y="86"/>
                </a:lnTo>
                <a:lnTo>
                  <a:pt x="0" y="54"/>
                </a:lnTo>
                <a:lnTo>
                  <a:pt x="21" y="12"/>
                </a:lnTo>
                <a:lnTo>
                  <a:pt x="73" y="2"/>
                </a:lnTo>
                <a:lnTo>
                  <a:pt x="105" y="2"/>
                </a:lnTo>
                <a:lnTo>
                  <a:pt x="147" y="2"/>
                </a:lnTo>
                <a:lnTo>
                  <a:pt x="179" y="2"/>
                </a:lnTo>
                <a:lnTo>
                  <a:pt x="221" y="12"/>
                </a:lnTo>
                <a:lnTo>
                  <a:pt x="21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DFC2-B391-43E6-ABA9-97D164CEE7C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85392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92376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11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2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13"/>
          <p:cNvSpPr/>
          <p:nvPr/>
        </p:nvSpPr>
        <p:spPr>
          <a:xfrm>
            <a:off x="1613880" y="2279520"/>
            <a:ext cx="23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14"/>
          <p:cNvSpPr/>
          <p:nvPr/>
        </p:nvSpPr>
        <p:spPr>
          <a:xfrm>
            <a:off x="765000" y="4032360"/>
            <a:ext cx="31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5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16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7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8"/>
          <p:cNvSpPr/>
          <p:nvPr/>
        </p:nvSpPr>
        <p:spPr>
          <a:xfrm>
            <a:off x="1752840" y="50227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9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0"/>
          <p:cNvSpPr/>
          <p:nvPr/>
        </p:nvSpPr>
        <p:spPr>
          <a:xfrm>
            <a:off x="5380200" y="425448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21"/>
          <p:cNvSpPr/>
          <p:nvPr/>
        </p:nvSpPr>
        <p:spPr>
          <a:xfrm>
            <a:off x="6081840" y="407988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383A-AB35-43C1-BB70-8FD994CD6E7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"/>
          <p:cNvSpPr/>
          <p:nvPr/>
        </p:nvSpPr>
        <p:spPr>
          <a:xfrm>
            <a:off x="85392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92376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11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2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13"/>
          <p:cNvSpPr/>
          <p:nvPr/>
        </p:nvSpPr>
        <p:spPr>
          <a:xfrm>
            <a:off x="1613880" y="2279520"/>
            <a:ext cx="23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4"/>
          <p:cNvSpPr/>
          <p:nvPr/>
        </p:nvSpPr>
        <p:spPr>
          <a:xfrm>
            <a:off x="765000" y="4032360"/>
            <a:ext cx="31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5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16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7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8"/>
          <p:cNvSpPr/>
          <p:nvPr/>
        </p:nvSpPr>
        <p:spPr>
          <a:xfrm>
            <a:off x="1752840" y="50227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9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20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21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2"/>
          <p:cNvSpPr/>
          <p:nvPr/>
        </p:nvSpPr>
        <p:spPr>
          <a:xfrm>
            <a:off x="2366640" y="304164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3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24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5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26"/>
          <p:cNvSpPr/>
          <p:nvPr/>
        </p:nvSpPr>
        <p:spPr>
          <a:xfrm>
            <a:off x="4654800" y="30416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7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28"/>
          <p:cNvSpPr/>
          <p:nvPr/>
        </p:nvSpPr>
        <p:spPr>
          <a:xfrm>
            <a:off x="5380200" y="425448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29"/>
          <p:cNvSpPr/>
          <p:nvPr/>
        </p:nvSpPr>
        <p:spPr>
          <a:xfrm>
            <a:off x="6081840" y="407988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416E-21AF-4561-BCC5-5F6F137CF3F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"/>
          <p:cNvSpPr/>
          <p:nvPr/>
        </p:nvSpPr>
        <p:spPr>
          <a:xfrm>
            <a:off x="85392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92376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11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2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3"/>
          <p:cNvSpPr/>
          <p:nvPr/>
        </p:nvSpPr>
        <p:spPr>
          <a:xfrm>
            <a:off x="1613880" y="2279520"/>
            <a:ext cx="23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4"/>
          <p:cNvSpPr/>
          <p:nvPr/>
        </p:nvSpPr>
        <p:spPr>
          <a:xfrm>
            <a:off x="765000" y="4032360"/>
            <a:ext cx="31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5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16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17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8"/>
          <p:cNvSpPr/>
          <p:nvPr/>
        </p:nvSpPr>
        <p:spPr>
          <a:xfrm>
            <a:off x="1752840" y="50227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19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20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21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2"/>
          <p:cNvSpPr/>
          <p:nvPr/>
        </p:nvSpPr>
        <p:spPr>
          <a:xfrm>
            <a:off x="2366640" y="304164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23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24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25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26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27"/>
          <p:cNvSpPr/>
          <p:nvPr/>
        </p:nvSpPr>
        <p:spPr>
          <a:xfrm>
            <a:off x="4654800" y="30416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28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29"/>
          <p:cNvSpPr/>
          <p:nvPr/>
        </p:nvSpPr>
        <p:spPr>
          <a:xfrm>
            <a:off x="4038840" y="43369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30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31"/>
          <p:cNvSpPr/>
          <p:nvPr/>
        </p:nvSpPr>
        <p:spPr>
          <a:xfrm>
            <a:off x="5380200" y="425448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2"/>
          <p:cNvSpPr/>
          <p:nvPr/>
        </p:nvSpPr>
        <p:spPr>
          <a:xfrm>
            <a:off x="6081840" y="407988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A6F9-C10F-41A7-A09E-85134ADC128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2"/>
          <p:cNvSpPr/>
          <p:nvPr/>
        </p:nvSpPr>
        <p:spPr>
          <a:xfrm>
            <a:off x="85392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92376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11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2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13"/>
          <p:cNvSpPr/>
          <p:nvPr/>
        </p:nvSpPr>
        <p:spPr>
          <a:xfrm>
            <a:off x="1613880" y="2279520"/>
            <a:ext cx="23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14"/>
          <p:cNvSpPr/>
          <p:nvPr/>
        </p:nvSpPr>
        <p:spPr>
          <a:xfrm>
            <a:off x="765000" y="4032360"/>
            <a:ext cx="31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15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Oval 16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7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18"/>
          <p:cNvSpPr/>
          <p:nvPr/>
        </p:nvSpPr>
        <p:spPr>
          <a:xfrm>
            <a:off x="1752840" y="50227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19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Oval 20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21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22"/>
          <p:cNvSpPr/>
          <p:nvPr/>
        </p:nvSpPr>
        <p:spPr>
          <a:xfrm>
            <a:off x="2366640" y="304164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23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Oval 24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25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26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27"/>
          <p:cNvSpPr/>
          <p:nvPr/>
        </p:nvSpPr>
        <p:spPr>
          <a:xfrm>
            <a:off x="4654800" y="30416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28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29"/>
          <p:cNvSpPr/>
          <p:nvPr/>
        </p:nvSpPr>
        <p:spPr>
          <a:xfrm>
            <a:off x="4038840" y="43369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30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31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32"/>
          <p:cNvSpPr/>
          <p:nvPr/>
        </p:nvSpPr>
        <p:spPr>
          <a:xfrm>
            <a:off x="4886640" y="2127240"/>
            <a:ext cx="28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33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34"/>
          <p:cNvSpPr/>
          <p:nvPr/>
        </p:nvSpPr>
        <p:spPr>
          <a:xfrm>
            <a:off x="5380200" y="425448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35"/>
          <p:cNvSpPr/>
          <p:nvPr/>
        </p:nvSpPr>
        <p:spPr>
          <a:xfrm>
            <a:off x="6081840" y="407988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392C-E297-46FA-AF05-34F016C2C7B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85392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6"/>
          <p:cNvSpPr/>
          <p:nvPr/>
        </p:nvSpPr>
        <p:spPr>
          <a:xfrm>
            <a:off x="92376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2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13"/>
          <p:cNvSpPr/>
          <p:nvPr/>
        </p:nvSpPr>
        <p:spPr>
          <a:xfrm>
            <a:off x="1613880" y="2279520"/>
            <a:ext cx="23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4"/>
          <p:cNvSpPr/>
          <p:nvPr/>
        </p:nvSpPr>
        <p:spPr>
          <a:xfrm>
            <a:off x="765000" y="4032360"/>
            <a:ext cx="31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15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16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7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18"/>
          <p:cNvSpPr/>
          <p:nvPr/>
        </p:nvSpPr>
        <p:spPr>
          <a:xfrm>
            <a:off x="1752840" y="50227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19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20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21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22"/>
          <p:cNvSpPr/>
          <p:nvPr/>
        </p:nvSpPr>
        <p:spPr>
          <a:xfrm>
            <a:off x="2366640" y="304164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23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24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25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6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27"/>
          <p:cNvSpPr/>
          <p:nvPr/>
        </p:nvSpPr>
        <p:spPr>
          <a:xfrm>
            <a:off x="4654800" y="30416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28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29"/>
          <p:cNvSpPr/>
          <p:nvPr/>
        </p:nvSpPr>
        <p:spPr>
          <a:xfrm>
            <a:off x="4038840" y="43369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30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31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32"/>
          <p:cNvSpPr/>
          <p:nvPr/>
        </p:nvSpPr>
        <p:spPr>
          <a:xfrm>
            <a:off x="4886640" y="2127240"/>
            <a:ext cx="28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33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34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35"/>
          <p:cNvSpPr/>
          <p:nvPr/>
        </p:nvSpPr>
        <p:spPr>
          <a:xfrm>
            <a:off x="3070080" y="5715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36"/>
          <p:cNvSpPr/>
          <p:nvPr/>
        </p:nvSpPr>
        <p:spPr>
          <a:xfrm>
            <a:off x="3434040" y="5403960"/>
            <a:ext cx="28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37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38"/>
          <p:cNvSpPr/>
          <p:nvPr/>
        </p:nvSpPr>
        <p:spPr>
          <a:xfrm flipV="1">
            <a:off x="459432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39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40"/>
          <p:cNvSpPr/>
          <p:nvPr/>
        </p:nvSpPr>
        <p:spPr>
          <a:xfrm>
            <a:off x="4649040" y="4946760"/>
            <a:ext cx="250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41"/>
          <p:cNvSpPr/>
          <p:nvPr/>
        </p:nvSpPr>
        <p:spPr>
          <a:xfrm>
            <a:off x="5380200" y="425448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42"/>
          <p:cNvSpPr/>
          <p:nvPr/>
        </p:nvSpPr>
        <p:spPr>
          <a:xfrm>
            <a:off x="6081840" y="407988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8A4A-30D1-4166-A4CA-EF71BF6F896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"/>
          <p:cNvSpPr/>
          <p:nvPr/>
        </p:nvSpPr>
        <p:spPr>
          <a:xfrm>
            <a:off x="853920" y="419040"/>
            <a:ext cx="4861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6"/>
          <p:cNvSpPr/>
          <p:nvPr/>
        </p:nvSpPr>
        <p:spPr>
          <a:xfrm>
            <a:off x="92376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Oval 11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2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13"/>
          <p:cNvSpPr/>
          <p:nvPr/>
        </p:nvSpPr>
        <p:spPr>
          <a:xfrm>
            <a:off x="1613880" y="2279520"/>
            <a:ext cx="23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14"/>
          <p:cNvSpPr/>
          <p:nvPr/>
        </p:nvSpPr>
        <p:spPr>
          <a:xfrm>
            <a:off x="765000" y="4032360"/>
            <a:ext cx="31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15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16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17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18"/>
          <p:cNvSpPr/>
          <p:nvPr/>
        </p:nvSpPr>
        <p:spPr>
          <a:xfrm>
            <a:off x="1752840" y="50227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19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20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21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22"/>
          <p:cNvSpPr/>
          <p:nvPr/>
        </p:nvSpPr>
        <p:spPr>
          <a:xfrm>
            <a:off x="2366640" y="304164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23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24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25"/>
          <p:cNvSpPr/>
          <p:nvPr/>
        </p:nvSpPr>
        <p:spPr>
          <a:xfrm>
            <a:off x="3070080" y="5715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26"/>
          <p:cNvSpPr/>
          <p:nvPr/>
        </p:nvSpPr>
        <p:spPr>
          <a:xfrm>
            <a:off x="3434040" y="5403960"/>
            <a:ext cx="28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7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28"/>
          <p:cNvSpPr/>
          <p:nvPr/>
        </p:nvSpPr>
        <p:spPr>
          <a:xfrm>
            <a:off x="5813280" y="5568840"/>
            <a:ext cx="29232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29"/>
          <p:cNvSpPr/>
          <p:nvPr/>
        </p:nvSpPr>
        <p:spPr>
          <a:xfrm>
            <a:off x="4594320" y="5715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30"/>
          <p:cNvSpPr/>
          <p:nvPr/>
        </p:nvSpPr>
        <p:spPr>
          <a:xfrm>
            <a:off x="4951800" y="5403960"/>
            <a:ext cx="332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31"/>
          <p:cNvSpPr/>
          <p:nvPr/>
        </p:nvSpPr>
        <p:spPr>
          <a:xfrm>
            <a:off x="452988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32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33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34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35"/>
          <p:cNvSpPr/>
          <p:nvPr/>
        </p:nvSpPr>
        <p:spPr>
          <a:xfrm>
            <a:off x="4654800" y="30416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36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37"/>
          <p:cNvSpPr/>
          <p:nvPr/>
        </p:nvSpPr>
        <p:spPr>
          <a:xfrm>
            <a:off x="4038840" y="43369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38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39"/>
          <p:cNvSpPr/>
          <p:nvPr/>
        </p:nvSpPr>
        <p:spPr>
          <a:xfrm flipV="1">
            <a:off x="459432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40"/>
          <p:cNvSpPr/>
          <p:nvPr/>
        </p:nvSpPr>
        <p:spPr>
          <a:xfrm>
            <a:off x="4649040" y="4946760"/>
            <a:ext cx="250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41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42"/>
          <p:cNvSpPr/>
          <p:nvPr/>
        </p:nvSpPr>
        <p:spPr>
          <a:xfrm flipV="1">
            <a:off x="5965920" y="3498840"/>
            <a:ext cx="52056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43"/>
          <p:cNvSpPr/>
          <p:nvPr/>
        </p:nvSpPr>
        <p:spPr>
          <a:xfrm>
            <a:off x="5726880" y="4794120"/>
            <a:ext cx="306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44"/>
          <p:cNvSpPr/>
          <p:nvPr/>
        </p:nvSpPr>
        <p:spPr>
          <a:xfrm>
            <a:off x="62164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45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46"/>
          <p:cNvSpPr/>
          <p:nvPr/>
        </p:nvSpPr>
        <p:spPr>
          <a:xfrm>
            <a:off x="4886640" y="2127240"/>
            <a:ext cx="28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47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48"/>
          <p:cNvSpPr/>
          <p:nvPr/>
        </p:nvSpPr>
        <p:spPr>
          <a:xfrm>
            <a:off x="5227920" y="29196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49"/>
          <p:cNvSpPr/>
          <p:nvPr/>
        </p:nvSpPr>
        <p:spPr>
          <a:xfrm>
            <a:off x="5776920" y="4140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366E-2FAF-4A59-B081-84308BC0061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 Network Diagr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ERT Char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3"/>
          <p:cNvSpPr/>
          <p:nvPr/>
        </p:nvSpPr>
        <p:spPr>
          <a:xfrm>
            <a:off x="38736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4"/>
          <p:cNvSpPr/>
          <p:nvPr/>
        </p:nvSpPr>
        <p:spPr>
          <a:xfrm>
            <a:off x="69228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5"/>
          <p:cNvSpPr/>
          <p:nvPr/>
        </p:nvSpPr>
        <p:spPr>
          <a:xfrm>
            <a:off x="160668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6"/>
          <p:cNvSpPr/>
          <p:nvPr/>
        </p:nvSpPr>
        <p:spPr>
          <a:xfrm>
            <a:off x="90792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7"/>
          <p:cNvSpPr/>
          <p:nvPr/>
        </p:nvSpPr>
        <p:spPr>
          <a:xfrm>
            <a:off x="54000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8"/>
          <p:cNvSpPr/>
          <p:nvPr/>
        </p:nvSpPr>
        <p:spPr>
          <a:xfrm>
            <a:off x="320688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9"/>
          <p:cNvSpPr/>
          <p:nvPr/>
        </p:nvSpPr>
        <p:spPr>
          <a:xfrm flipV="1">
            <a:off x="69228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10"/>
          <p:cNvSpPr/>
          <p:nvPr/>
        </p:nvSpPr>
        <p:spPr>
          <a:xfrm rot="19860000">
            <a:off x="157644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Oval 11"/>
          <p:cNvSpPr/>
          <p:nvPr/>
        </p:nvSpPr>
        <p:spPr>
          <a:xfrm>
            <a:off x="84456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12"/>
          <p:cNvSpPr/>
          <p:nvPr/>
        </p:nvSpPr>
        <p:spPr>
          <a:xfrm>
            <a:off x="53964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3"/>
          <p:cNvSpPr/>
          <p:nvPr/>
        </p:nvSpPr>
        <p:spPr>
          <a:xfrm>
            <a:off x="1598040" y="2279520"/>
            <a:ext cx="23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4"/>
          <p:cNvSpPr/>
          <p:nvPr/>
        </p:nvSpPr>
        <p:spPr>
          <a:xfrm>
            <a:off x="749160" y="4032360"/>
            <a:ext cx="31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5"/>
          <p:cNvSpPr/>
          <p:nvPr/>
        </p:nvSpPr>
        <p:spPr>
          <a:xfrm rot="4440000">
            <a:off x="-5760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Oval 16"/>
          <p:cNvSpPr/>
          <p:nvPr/>
        </p:nvSpPr>
        <p:spPr>
          <a:xfrm>
            <a:off x="274968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17"/>
          <p:cNvSpPr/>
          <p:nvPr/>
        </p:nvSpPr>
        <p:spPr>
          <a:xfrm>
            <a:off x="114948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8"/>
          <p:cNvSpPr/>
          <p:nvPr/>
        </p:nvSpPr>
        <p:spPr>
          <a:xfrm>
            <a:off x="1737000" y="50227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19"/>
          <p:cNvSpPr/>
          <p:nvPr/>
        </p:nvSpPr>
        <p:spPr>
          <a:xfrm>
            <a:off x="112428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Oval 20"/>
          <p:cNvSpPr/>
          <p:nvPr/>
        </p:nvSpPr>
        <p:spPr>
          <a:xfrm>
            <a:off x="343548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21"/>
          <p:cNvSpPr/>
          <p:nvPr/>
        </p:nvSpPr>
        <p:spPr>
          <a:xfrm>
            <a:off x="191124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2"/>
          <p:cNvSpPr/>
          <p:nvPr/>
        </p:nvSpPr>
        <p:spPr>
          <a:xfrm>
            <a:off x="2350800" y="304164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3"/>
          <p:cNvSpPr/>
          <p:nvPr/>
        </p:nvSpPr>
        <p:spPr>
          <a:xfrm>
            <a:off x="185508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Oval 24"/>
          <p:cNvSpPr/>
          <p:nvPr/>
        </p:nvSpPr>
        <p:spPr>
          <a:xfrm>
            <a:off x="427356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25"/>
          <p:cNvSpPr/>
          <p:nvPr/>
        </p:nvSpPr>
        <p:spPr>
          <a:xfrm>
            <a:off x="3054240" y="5715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6"/>
          <p:cNvSpPr/>
          <p:nvPr/>
        </p:nvSpPr>
        <p:spPr>
          <a:xfrm>
            <a:off x="3418200" y="5403960"/>
            <a:ext cx="28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7"/>
          <p:cNvSpPr/>
          <p:nvPr/>
        </p:nvSpPr>
        <p:spPr>
          <a:xfrm>
            <a:off x="29671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Oval 28"/>
          <p:cNvSpPr/>
          <p:nvPr/>
        </p:nvSpPr>
        <p:spPr>
          <a:xfrm>
            <a:off x="5797440" y="5568840"/>
            <a:ext cx="29232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29"/>
          <p:cNvSpPr/>
          <p:nvPr/>
        </p:nvSpPr>
        <p:spPr>
          <a:xfrm>
            <a:off x="4578480" y="5715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0"/>
          <p:cNvSpPr/>
          <p:nvPr/>
        </p:nvSpPr>
        <p:spPr>
          <a:xfrm>
            <a:off x="4935960" y="5403960"/>
            <a:ext cx="332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1"/>
          <p:cNvSpPr/>
          <p:nvPr/>
        </p:nvSpPr>
        <p:spPr>
          <a:xfrm>
            <a:off x="451404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Oval 32"/>
          <p:cNvSpPr/>
          <p:nvPr/>
        </p:nvSpPr>
        <p:spPr>
          <a:xfrm>
            <a:off x="633096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33"/>
          <p:cNvSpPr/>
          <p:nvPr/>
        </p:nvSpPr>
        <p:spPr>
          <a:xfrm flipV="1">
            <a:off x="297828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34"/>
          <p:cNvSpPr/>
          <p:nvPr/>
        </p:nvSpPr>
        <p:spPr>
          <a:xfrm>
            <a:off x="374004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5"/>
          <p:cNvSpPr/>
          <p:nvPr/>
        </p:nvSpPr>
        <p:spPr>
          <a:xfrm>
            <a:off x="4638960" y="30416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6"/>
          <p:cNvSpPr/>
          <p:nvPr/>
        </p:nvSpPr>
        <p:spPr>
          <a:xfrm>
            <a:off x="399672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7"/>
          <p:cNvSpPr/>
          <p:nvPr/>
        </p:nvSpPr>
        <p:spPr>
          <a:xfrm>
            <a:off x="4023000" y="43369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8"/>
          <p:cNvSpPr/>
          <p:nvPr/>
        </p:nvSpPr>
        <p:spPr>
          <a:xfrm rot="19440000">
            <a:off x="402912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39"/>
          <p:cNvSpPr/>
          <p:nvPr/>
        </p:nvSpPr>
        <p:spPr>
          <a:xfrm flipV="1">
            <a:off x="457848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0"/>
          <p:cNvSpPr/>
          <p:nvPr/>
        </p:nvSpPr>
        <p:spPr>
          <a:xfrm>
            <a:off x="4633200" y="4946760"/>
            <a:ext cx="250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1"/>
          <p:cNvSpPr/>
          <p:nvPr/>
        </p:nvSpPr>
        <p:spPr>
          <a:xfrm rot="18540000">
            <a:off x="507348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42"/>
          <p:cNvSpPr/>
          <p:nvPr/>
        </p:nvSpPr>
        <p:spPr>
          <a:xfrm flipV="1">
            <a:off x="5950080" y="3498840"/>
            <a:ext cx="52056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3"/>
          <p:cNvSpPr/>
          <p:nvPr/>
        </p:nvSpPr>
        <p:spPr>
          <a:xfrm>
            <a:off x="5711040" y="4794120"/>
            <a:ext cx="306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4"/>
          <p:cNvSpPr/>
          <p:nvPr/>
        </p:nvSpPr>
        <p:spPr>
          <a:xfrm>
            <a:off x="62002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45"/>
          <p:cNvSpPr/>
          <p:nvPr/>
        </p:nvSpPr>
        <p:spPr>
          <a:xfrm>
            <a:off x="351144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6"/>
          <p:cNvSpPr/>
          <p:nvPr/>
        </p:nvSpPr>
        <p:spPr>
          <a:xfrm>
            <a:off x="4870800" y="2127240"/>
            <a:ext cx="28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7"/>
          <p:cNvSpPr/>
          <p:nvPr/>
        </p:nvSpPr>
        <p:spPr>
          <a:xfrm rot="1440000">
            <a:off x="362412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Oval 48"/>
          <p:cNvSpPr/>
          <p:nvPr/>
        </p:nvSpPr>
        <p:spPr>
          <a:xfrm>
            <a:off x="747396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49"/>
          <p:cNvSpPr/>
          <p:nvPr/>
        </p:nvSpPr>
        <p:spPr>
          <a:xfrm>
            <a:off x="6635880" y="33526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0"/>
          <p:cNvSpPr/>
          <p:nvPr/>
        </p:nvSpPr>
        <p:spPr>
          <a:xfrm>
            <a:off x="6917760" y="3041640"/>
            <a:ext cx="365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1"/>
          <p:cNvSpPr/>
          <p:nvPr/>
        </p:nvSpPr>
        <p:spPr>
          <a:xfrm>
            <a:off x="641592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52"/>
          <p:cNvSpPr/>
          <p:nvPr/>
        </p:nvSpPr>
        <p:spPr>
          <a:xfrm>
            <a:off x="869328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53"/>
          <p:cNvSpPr/>
          <p:nvPr/>
        </p:nvSpPr>
        <p:spPr>
          <a:xfrm>
            <a:off x="777888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4"/>
          <p:cNvSpPr/>
          <p:nvPr/>
        </p:nvSpPr>
        <p:spPr>
          <a:xfrm>
            <a:off x="8058600" y="3041640"/>
            <a:ext cx="335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5"/>
          <p:cNvSpPr/>
          <p:nvPr/>
        </p:nvSpPr>
        <p:spPr>
          <a:xfrm>
            <a:off x="772560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6"/>
          <p:cNvSpPr/>
          <p:nvPr/>
        </p:nvSpPr>
        <p:spPr>
          <a:xfrm>
            <a:off x="5227920" y="29196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7"/>
          <p:cNvSpPr/>
          <p:nvPr/>
        </p:nvSpPr>
        <p:spPr>
          <a:xfrm>
            <a:off x="5776920" y="4140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555F-D46D-45B5-B615-B178A2842F5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2"/>
          <p:cNvSpPr/>
          <p:nvPr/>
        </p:nvSpPr>
        <p:spPr>
          <a:xfrm>
            <a:off x="152280" y="266760"/>
            <a:ext cx="51818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  Canoe Example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Book Antiqua"/>
              </a:rPr>
              <a:t>Add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"/>
          <p:cNvSpPr/>
          <p:nvPr/>
        </p:nvSpPr>
        <p:spPr>
          <a:xfrm>
            <a:off x="923040" y="3041640"/>
            <a:ext cx="601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Oval 11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12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13"/>
          <p:cNvSpPr/>
          <p:nvPr/>
        </p:nvSpPr>
        <p:spPr>
          <a:xfrm>
            <a:off x="1307880" y="2279520"/>
            <a:ext cx="527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14"/>
          <p:cNvSpPr/>
          <p:nvPr/>
        </p:nvSpPr>
        <p:spPr>
          <a:xfrm>
            <a:off x="763920" y="4032360"/>
            <a:ext cx="60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15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Oval 16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7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8"/>
          <p:cNvSpPr/>
          <p:nvPr/>
        </p:nvSpPr>
        <p:spPr>
          <a:xfrm>
            <a:off x="1751760" y="50227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19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Oval 20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21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22"/>
          <p:cNvSpPr/>
          <p:nvPr/>
        </p:nvSpPr>
        <p:spPr>
          <a:xfrm>
            <a:off x="2365920" y="3041640"/>
            <a:ext cx="60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 (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23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24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5"/>
          <p:cNvSpPr/>
          <p:nvPr/>
        </p:nvSpPr>
        <p:spPr>
          <a:xfrm>
            <a:off x="3070080" y="5715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26"/>
          <p:cNvSpPr/>
          <p:nvPr/>
        </p:nvSpPr>
        <p:spPr>
          <a:xfrm>
            <a:off x="3432960" y="5403960"/>
            <a:ext cx="57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27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28"/>
          <p:cNvSpPr/>
          <p:nvPr/>
        </p:nvSpPr>
        <p:spPr>
          <a:xfrm>
            <a:off x="5813280" y="5568840"/>
            <a:ext cx="29232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29"/>
          <p:cNvSpPr/>
          <p:nvPr/>
        </p:nvSpPr>
        <p:spPr>
          <a:xfrm>
            <a:off x="4594320" y="5715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30"/>
          <p:cNvSpPr/>
          <p:nvPr/>
        </p:nvSpPr>
        <p:spPr>
          <a:xfrm>
            <a:off x="4798440" y="5403960"/>
            <a:ext cx="623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31"/>
          <p:cNvSpPr/>
          <p:nvPr/>
        </p:nvSpPr>
        <p:spPr>
          <a:xfrm>
            <a:off x="452988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32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33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34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35"/>
          <p:cNvSpPr/>
          <p:nvPr/>
        </p:nvSpPr>
        <p:spPr>
          <a:xfrm>
            <a:off x="4653720" y="3041640"/>
            <a:ext cx="58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36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37"/>
          <p:cNvSpPr/>
          <p:nvPr/>
        </p:nvSpPr>
        <p:spPr>
          <a:xfrm>
            <a:off x="3809160" y="43369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38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39"/>
          <p:cNvSpPr/>
          <p:nvPr/>
        </p:nvSpPr>
        <p:spPr>
          <a:xfrm flipV="1">
            <a:off x="459432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40"/>
          <p:cNvSpPr/>
          <p:nvPr/>
        </p:nvSpPr>
        <p:spPr>
          <a:xfrm>
            <a:off x="4419720" y="4946760"/>
            <a:ext cx="54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1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42"/>
          <p:cNvSpPr/>
          <p:nvPr/>
        </p:nvSpPr>
        <p:spPr>
          <a:xfrm flipV="1">
            <a:off x="5965920" y="3498840"/>
            <a:ext cx="52056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43"/>
          <p:cNvSpPr/>
          <p:nvPr/>
        </p:nvSpPr>
        <p:spPr>
          <a:xfrm>
            <a:off x="5497200" y="487044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44"/>
          <p:cNvSpPr/>
          <p:nvPr/>
        </p:nvSpPr>
        <p:spPr>
          <a:xfrm>
            <a:off x="62164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45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46"/>
          <p:cNvSpPr/>
          <p:nvPr/>
        </p:nvSpPr>
        <p:spPr>
          <a:xfrm>
            <a:off x="4878360" y="212724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 (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47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48"/>
          <p:cNvSpPr/>
          <p:nvPr/>
        </p:nvSpPr>
        <p:spPr>
          <a:xfrm>
            <a:off x="74898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49"/>
          <p:cNvSpPr/>
          <p:nvPr/>
        </p:nvSpPr>
        <p:spPr>
          <a:xfrm>
            <a:off x="6651720" y="33526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50"/>
          <p:cNvSpPr/>
          <p:nvPr/>
        </p:nvSpPr>
        <p:spPr>
          <a:xfrm>
            <a:off x="6703920" y="3041640"/>
            <a:ext cx="657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51"/>
          <p:cNvSpPr/>
          <p:nvPr/>
        </p:nvSpPr>
        <p:spPr>
          <a:xfrm>
            <a:off x="643176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52"/>
          <p:cNvSpPr/>
          <p:nvPr/>
        </p:nvSpPr>
        <p:spPr>
          <a:xfrm>
            <a:off x="87091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53"/>
          <p:cNvSpPr/>
          <p:nvPr/>
        </p:nvSpPr>
        <p:spPr>
          <a:xfrm>
            <a:off x="77947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54"/>
          <p:cNvSpPr/>
          <p:nvPr/>
        </p:nvSpPr>
        <p:spPr>
          <a:xfrm>
            <a:off x="7768800" y="3041640"/>
            <a:ext cx="62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55"/>
          <p:cNvSpPr/>
          <p:nvPr/>
        </p:nvSpPr>
        <p:spPr>
          <a:xfrm>
            <a:off x="774144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56"/>
          <p:cNvSpPr/>
          <p:nvPr/>
        </p:nvSpPr>
        <p:spPr>
          <a:xfrm>
            <a:off x="6718320" y="609480"/>
            <a:ext cx="2184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57"/>
          <p:cNvSpPr/>
          <p:nvPr/>
        </p:nvSpPr>
        <p:spPr>
          <a:xfrm>
            <a:off x="6277320" y="673200"/>
            <a:ext cx="303444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Prepare Dock Site          3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Prepare Hut Site             4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       6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         3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                       4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                     3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Power to Hut                    2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                     2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                    3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                  2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                         4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         10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      4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Open for Business           2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58"/>
          <p:cNvSpPr/>
          <p:nvPr/>
        </p:nvSpPr>
        <p:spPr>
          <a:xfrm>
            <a:off x="6234840" y="216000"/>
            <a:ext cx="267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1000" spc="-1" strike="noStrike">
                <a:solidFill>
                  <a:srgbClr val="ff5008"/>
                </a:solidFill>
                <a:latin typeface="Britannic Bold"/>
              </a:rPr>
              <a:t>Task Description        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7DB6-A455-4300-AF97-D2D17C56D97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2"/>
          <p:cNvSpPr/>
          <p:nvPr/>
        </p:nvSpPr>
        <p:spPr>
          <a:xfrm>
            <a:off x="838080" y="419040"/>
            <a:ext cx="44960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 Network Diagr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ERT Char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3"/>
          <p:cNvSpPr/>
          <p:nvPr/>
        </p:nvSpPr>
        <p:spPr>
          <a:xfrm>
            <a:off x="38736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4"/>
          <p:cNvSpPr/>
          <p:nvPr/>
        </p:nvSpPr>
        <p:spPr>
          <a:xfrm>
            <a:off x="69228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"/>
          <p:cNvSpPr/>
          <p:nvPr/>
        </p:nvSpPr>
        <p:spPr>
          <a:xfrm>
            <a:off x="160668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6"/>
          <p:cNvSpPr/>
          <p:nvPr/>
        </p:nvSpPr>
        <p:spPr>
          <a:xfrm>
            <a:off x="90792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7"/>
          <p:cNvSpPr/>
          <p:nvPr/>
        </p:nvSpPr>
        <p:spPr>
          <a:xfrm>
            <a:off x="54000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8"/>
          <p:cNvSpPr/>
          <p:nvPr/>
        </p:nvSpPr>
        <p:spPr>
          <a:xfrm>
            <a:off x="320688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9"/>
          <p:cNvSpPr/>
          <p:nvPr/>
        </p:nvSpPr>
        <p:spPr>
          <a:xfrm flipV="1">
            <a:off x="69228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10"/>
          <p:cNvSpPr/>
          <p:nvPr/>
        </p:nvSpPr>
        <p:spPr>
          <a:xfrm rot="19860000">
            <a:off x="157644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11"/>
          <p:cNvSpPr/>
          <p:nvPr/>
        </p:nvSpPr>
        <p:spPr>
          <a:xfrm>
            <a:off x="84456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12"/>
          <p:cNvSpPr/>
          <p:nvPr/>
        </p:nvSpPr>
        <p:spPr>
          <a:xfrm>
            <a:off x="53964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13"/>
          <p:cNvSpPr/>
          <p:nvPr/>
        </p:nvSpPr>
        <p:spPr>
          <a:xfrm>
            <a:off x="1598040" y="2279520"/>
            <a:ext cx="23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14"/>
          <p:cNvSpPr/>
          <p:nvPr/>
        </p:nvSpPr>
        <p:spPr>
          <a:xfrm>
            <a:off x="749160" y="4032360"/>
            <a:ext cx="31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15"/>
          <p:cNvSpPr/>
          <p:nvPr/>
        </p:nvSpPr>
        <p:spPr>
          <a:xfrm rot="4440000">
            <a:off x="-5760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16"/>
          <p:cNvSpPr/>
          <p:nvPr/>
        </p:nvSpPr>
        <p:spPr>
          <a:xfrm>
            <a:off x="274968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17"/>
          <p:cNvSpPr/>
          <p:nvPr/>
        </p:nvSpPr>
        <p:spPr>
          <a:xfrm>
            <a:off x="114948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18"/>
          <p:cNvSpPr/>
          <p:nvPr/>
        </p:nvSpPr>
        <p:spPr>
          <a:xfrm>
            <a:off x="1737000" y="50227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19"/>
          <p:cNvSpPr/>
          <p:nvPr/>
        </p:nvSpPr>
        <p:spPr>
          <a:xfrm>
            <a:off x="112428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20"/>
          <p:cNvSpPr/>
          <p:nvPr/>
        </p:nvSpPr>
        <p:spPr>
          <a:xfrm>
            <a:off x="343548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21"/>
          <p:cNvSpPr/>
          <p:nvPr/>
        </p:nvSpPr>
        <p:spPr>
          <a:xfrm>
            <a:off x="191124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22"/>
          <p:cNvSpPr/>
          <p:nvPr/>
        </p:nvSpPr>
        <p:spPr>
          <a:xfrm>
            <a:off x="2350800" y="304164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23"/>
          <p:cNvSpPr/>
          <p:nvPr/>
        </p:nvSpPr>
        <p:spPr>
          <a:xfrm>
            <a:off x="185508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Oval 24"/>
          <p:cNvSpPr/>
          <p:nvPr/>
        </p:nvSpPr>
        <p:spPr>
          <a:xfrm>
            <a:off x="427356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25"/>
          <p:cNvSpPr/>
          <p:nvPr/>
        </p:nvSpPr>
        <p:spPr>
          <a:xfrm>
            <a:off x="3054240" y="5715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26"/>
          <p:cNvSpPr/>
          <p:nvPr/>
        </p:nvSpPr>
        <p:spPr>
          <a:xfrm>
            <a:off x="3418200" y="5403960"/>
            <a:ext cx="28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27"/>
          <p:cNvSpPr/>
          <p:nvPr/>
        </p:nvSpPr>
        <p:spPr>
          <a:xfrm>
            <a:off x="29671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Oval 28"/>
          <p:cNvSpPr/>
          <p:nvPr/>
        </p:nvSpPr>
        <p:spPr>
          <a:xfrm>
            <a:off x="5797440" y="5568840"/>
            <a:ext cx="29232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29"/>
          <p:cNvSpPr/>
          <p:nvPr/>
        </p:nvSpPr>
        <p:spPr>
          <a:xfrm>
            <a:off x="4578480" y="5715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30"/>
          <p:cNvSpPr/>
          <p:nvPr/>
        </p:nvSpPr>
        <p:spPr>
          <a:xfrm>
            <a:off x="4935960" y="5403960"/>
            <a:ext cx="332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31"/>
          <p:cNvSpPr/>
          <p:nvPr/>
        </p:nvSpPr>
        <p:spPr>
          <a:xfrm>
            <a:off x="451404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Oval 32"/>
          <p:cNvSpPr/>
          <p:nvPr/>
        </p:nvSpPr>
        <p:spPr>
          <a:xfrm>
            <a:off x="633096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Line 33"/>
          <p:cNvSpPr/>
          <p:nvPr/>
        </p:nvSpPr>
        <p:spPr>
          <a:xfrm flipV="1">
            <a:off x="297828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Line 34"/>
          <p:cNvSpPr/>
          <p:nvPr/>
        </p:nvSpPr>
        <p:spPr>
          <a:xfrm>
            <a:off x="374004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35"/>
          <p:cNvSpPr/>
          <p:nvPr/>
        </p:nvSpPr>
        <p:spPr>
          <a:xfrm>
            <a:off x="4638960" y="30416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36"/>
          <p:cNvSpPr/>
          <p:nvPr/>
        </p:nvSpPr>
        <p:spPr>
          <a:xfrm>
            <a:off x="399672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37"/>
          <p:cNvSpPr/>
          <p:nvPr/>
        </p:nvSpPr>
        <p:spPr>
          <a:xfrm>
            <a:off x="4023000" y="43369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38"/>
          <p:cNvSpPr/>
          <p:nvPr/>
        </p:nvSpPr>
        <p:spPr>
          <a:xfrm rot="19440000">
            <a:off x="402912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Line 39"/>
          <p:cNvSpPr/>
          <p:nvPr/>
        </p:nvSpPr>
        <p:spPr>
          <a:xfrm flipV="1">
            <a:off x="457848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40"/>
          <p:cNvSpPr/>
          <p:nvPr/>
        </p:nvSpPr>
        <p:spPr>
          <a:xfrm>
            <a:off x="4633200" y="4946760"/>
            <a:ext cx="250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41"/>
          <p:cNvSpPr/>
          <p:nvPr/>
        </p:nvSpPr>
        <p:spPr>
          <a:xfrm rot="18540000">
            <a:off x="507348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Line 42"/>
          <p:cNvSpPr/>
          <p:nvPr/>
        </p:nvSpPr>
        <p:spPr>
          <a:xfrm flipV="1">
            <a:off x="5950080" y="3498840"/>
            <a:ext cx="52056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43"/>
          <p:cNvSpPr/>
          <p:nvPr/>
        </p:nvSpPr>
        <p:spPr>
          <a:xfrm>
            <a:off x="5711040" y="4794120"/>
            <a:ext cx="306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44"/>
          <p:cNvSpPr/>
          <p:nvPr/>
        </p:nvSpPr>
        <p:spPr>
          <a:xfrm>
            <a:off x="62002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Line 45"/>
          <p:cNvSpPr/>
          <p:nvPr/>
        </p:nvSpPr>
        <p:spPr>
          <a:xfrm>
            <a:off x="351144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46"/>
          <p:cNvSpPr/>
          <p:nvPr/>
        </p:nvSpPr>
        <p:spPr>
          <a:xfrm>
            <a:off x="4870800" y="2127240"/>
            <a:ext cx="28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47"/>
          <p:cNvSpPr/>
          <p:nvPr/>
        </p:nvSpPr>
        <p:spPr>
          <a:xfrm rot="1440000">
            <a:off x="362412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48"/>
          <p:cNvSpPr/>
          <p:nvPr/>
        </p:nvSpPr>
        <p:spPr>
          <a:xfrm>
            <a:off x="747396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49"/>
          <p:cNvSpPr/>
          <p:nvPr/>
        </p:nvSpPr>
        <p:spPr>
          <a:xfrm>
            <a:off x="6635880" y="33526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50"/>
          <p:cNvSpPr/>
          <p:nvPr/>
        </p:nvSpPr>
        <p:spPr>
          <a:xfrm>
            <a:off x="6917760" y="3041640"/>
            <a:ext cx="365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51"/>
          <p:cNvSpPr/>
          <p:nvPr/>
        </p:nvSpPr>
        <p:spPr>
          <a:xfrm>
            <a:off x="641592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Oval 52"/>
          <p:cNvSpPr/>
          <p:nvPr/>
        </p:nvSpPr>
        <p:spPr>
          <a:xfrm>
            <a:off x="869328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53"/>
          <p:cNvSpPr/>
          <p:nvPr/>
        </p:nvSpPr>
        <p:spPr>
          <a:xfrm>
            <a:off x="777888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54"/>
          <p:cNvSpPr/>
          <p:nvPr/>
        </p:nvSpPr>
        <p:spPr>
          <a:xfrm>
            <a:off x="8058600" y="3041640"/>
            <a:ext cx="335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55"/>
          <p:cNvSpPr/>
          <p:nvPr/>
        </p:nvSpPr>
        <p:spPr>
          <a:xfrm>
            <a:off x="772560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56"/>
          <p:cNvSpPr/>
          <p:nvPr/>
        </p:nvSpPr>
        <p:spPr>
          <a:xfrm>
            <a:off x="5227920" y="29196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57"/>
          <p:cNvSpPr/>
          <p:nvPr/>
        </p:nvSpPr>
        <p:spPr>
          <a:xfrm>
            <a:off x="5776920" y="4140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F02C-BC4E-40C0-9608-0BC56754E65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52280" y="266760"/>
            <a:ext cx="51818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  Canoe Example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Book Antiqua"/>
              </a:rPr>
              <a:t>Add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6"/>
          <p:cNvSpPr/>
          <p:nvPr/>
        </p:nvSpPr>
        <p:spPr>
          <a:xfrm>
            <a:off x="923040" y="3041640"/>
            <a:ext cx="601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11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12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13"/>
          <p:cNvSpPr/>
          <p:nvPr/>
        </p:nvSpPr>
        <p:spPr>
          <a:xfrm>
            <a:off x="1307880" y="2279520"/>
            <a:ext cx="527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14"/>
          <p:cNvSpPr/>
          <p:nvPr/>
        </p:nvSpPr>
        <p:spPr>
          <a:xfrm>
            <a:off x="763920" y="4032360"/>
            <a:ext cx="60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15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16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7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18"/>
          <p:cNvSpPr/>
          <p:nvPr/>
        </p:nvSpPr>
        <p:spPr>
          <a:xfrm>
            <a:off x="1751760" y="50227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19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Oval 20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21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22"/>
          <p:cNvSpPr/>
          <p:nvPr/>
        </p:nvSpPr>
        <p:spPr>
          <a:xfrm>
            <a:off x="2365920" y="3041640"/>
            <a:ext cx="60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 (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3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Oval 24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25"/>
          <p:cNvSpPr/>
          <p:nvPr/>
        </p:nvSpPr>
        <p:spPr>
          <a:xfrm>
            <a:off x="3070080" y="5715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26"/>
          <p:cNvSpPr/>
          <p:nvPr/>
        </p:nvSpPr>
        <p:spPr>
          <a:xfrm>
            <a:off x="3432960" y="5403960"/>
            <a:ext cx="57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27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Oval 28"/>
          <p:cNvSpPr/>
          <p:nvPr/>
        </p:nvSpPr>
        <p:spPr>
          <a:xfrm>
            <a:off x="5813280" y="5568840"/>
            <a:ext cx="29232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29"/>
          <p:cNvSpPr/>
          <p:nvPr/>
        </p:nvSpPr>
        <p:spPr>
          <a:xfrm>
            <a:off x="4594320" y="5715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30"/>
          <p:cNvSpPr/>
          <p:nvPr/>
        </p:nvSpPr>
        <p:spPr>
          <a:xfrm>
            <a:off x="4798440" y="5403960"/>
            <a:ext cx="623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31"/>
          <p:cNvSpPr/>
          <p:nvPr/>
        </p:nvSpPr>
        <p:spPr>
          <a:xfrm>
            <a:off x="452988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Oval 32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33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34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35"/>
          <p:cNvSpPr/>
          <p:nvPr/>
        </p:nvSpPr>
        <p:spPr>
          <a:xfrm>
            <a:off x="4653720" y="3041640"/>
            <a:ext cx="58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36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37"/>
          <p:cNvSpPr/>
          <p:nvPr/>
        </p:nvSpPr>
        <p:spPr>
          <a:xfrm>
            <a:off x="3809160" y="43369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38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Line 39"/>
          <p:cNvSpPr/>
          <p:nvPr/>
        </p:nvSpPr>
        <p:spPr>
          <a:xfrm flipV="1">
            <a:off x="459432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Rectangle 40"/>
          <p:cNvSpPr/>
          <p:nvPr/>
        </p:nvSpPr>
        <p:spPr>
          <a:xfrm>
            <a:off x="4419720" y="4946760"/>
            <a:ext cx="54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Rectangle 41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42"/>
          <p:cNvSpPr/>
          <p:nvPr/>
        </p:nvSpPr>
        <p:spPr>
          <a:xfrm flipV="1">
            <a:off x="5965920" y="3498840"/>
            <a:ext cx="52056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Rectangle 43"/>
          <p:cNvSpPr/>
          <p:nvPr/>
        </p:nvSpPr>
        <p:spPr>
          <a:xfrm>
            <a:off x="5497200" y="487044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44"/>
          <p:cNvSpPr/>
          <p:nvPr/>
        </p:nvSpPr>
        <p:spPr>
          <a:xfrm>
            <a:off x="62164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Line 45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46"/>
          <p:cNvSpPr/>
          <p:nvPr/>
        </p:nvSpPr>
        <p:spPr>
          <a:xfrm>
            <a:off x="4878360" y="212724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 (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47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Oval 48"/>
          <p:cNvSpPr/>
          <p:nvPr/>
        </p:nvSpPr>
        <p:spPr>
          <a:xfrm>
            <a:off x="74898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Line 49"/>
          <p:cNvSpPr/>
          <p:nvPr/>
        </p:nvSpPr>
        <p:spPr>
          <a:xfrm>
            <a:off x="6651720" y="33526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50"/>
          <p:cNvSpPr/>
          <p:nvPr/>
        </p:nvSpPr>
        <p:spPr>
          <a:xfrm>
            <a:off x="6703920" y="3041640"/>
            <a:ext cx="657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51"/>
          <p:cNvSpPr/>
          <p:nvPr/>
        </p:nvSpPr>
        <p:spPr>
          <a:xfrm>
            <a:off x="643176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Oval 52"/>
          <p:cNvSpPr/>
          <p:nvPr/>
        </p:nvSpPr>
        <p:spPr>
          <a:xfrm>
            <a:off x="87091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53"/>
          <p:cNvSpPr/>
          <p:nvPr/>
        </p:nvSpPr>
        <p:spPr>
          <a:xfrm>
            <a:off x="77947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54"/>
          <p:cNvSpPr/>
          <p:nvPr/>
        </p:nvSpPr>
        <p:spPr>
          <a:xfrm>
            <a:off x="7768800" y="3041640"/>
            <a:ext cx="62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55"/>
          <p:cNvSpPr/>
          <p:nvPr/>
        </p:nvSpPr>
        <p:spPr>
          <a:xfrm>
            <a:off x="774144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56"/>
          <p:cNvSpPr/>
          <p:nvPr/>
        </p:nvSpPr>
        <p:spPr>
          <a:xfrm>
            <a:off x="6718320" y="609480"/>
            <a:ext cx="2184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57"/>
          <p:cNvSpPr/>
          <p:nvPr/>
        </p:nvSpPr>
        <p:spPr>
          <a:xfrm>
            <a:off x="6277320" y="673200"/>
            <a:ext cx="303444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Prepare Dock Site          3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Prepare Hut Site             4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       6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         3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                       4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                     3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Power to Hut                    2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                     2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                    3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                  2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                         4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         10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      4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Open for Business           2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58"/>
          <p:cNvSpPr/>
          <p:nvPr/>
        </p:nvSpPr>
        <p:spPr>
          <a:xfrm>
            <a:off x="6234840" y="216000"/>
            <a:ext cx="267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1000" spc="-1" strike="noStrike">
                <a:solidFill>
                  <a:srgbClr val="ff5008"/>
                </a:solidFill>
                <a:latin typeface="Britannic Bold"/>
              </a:rPr>
              <a:t>Task Description        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5D3C-B7F2-4C8B-BD17-A357558D14C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causes of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838080" y="1981080"/>
            <a:ext cx="777240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f a unsound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ng the wrong person as a project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support from upper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used management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termination not plan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5325-EBA6-4ED8-97F7-AC151845865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Project 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"/>
          <p:cNvSpPr/>
          <p:nvPr/>
        </p:nvSpPr>
        <p:spPr>
          <a:xfrm>
            <a:off x="969480" y="240336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 1:  Sum all the task duration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4"/>
          <p:cNvSpPr/>
          <p:nvPr/>
        </p:nvSpPr>
        <p:spPr>
          <a:xfrm>
            <a:off x="566280" y="2971800"/>
            <a:ext cx="77184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Prepare Dock Site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3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Prepare Hut Site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4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Install Dock Pilings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6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Foundation for Hut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3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Build Dock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4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Frame Hut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3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Power to Hut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2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ide the Hut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2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Roof the Hut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3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Order Canoes and Receive Canoes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2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K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Paint Hut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4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Assemble Canoes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10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Finish Landscaping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L,I,K,E,G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4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Open for Business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2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7162920" y="5638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6"/>
          <p:cNvSpPr/>
          <p:nvPr/>
        </p:nvSpPr>
        <p:spPr>
          <a:xfrm>
            <a:off x="6614280" y="56800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= 52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1446120" y="5943600"/>
            <a:ext cx="46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thing wrong with this approa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BF0C-9404-453B-86F4-73F9E1FD14D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Project 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3"/>
          <p:cNvSpPr/>
          <p:nvPr/>
        </p:nvSpPr>
        <p:spPr>
          <a:xfrm>
            <a:off x="1044360" y="2251080"/>
            <a:ext cx="65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 2:  Determine duration of each network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5B95-98AA-4AEA-99C7-0341B5DE411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2"/>
          <p:cNvSpPr/>
          <p:nvPr/>
        </p:nvSpPr>
        <p:spPr>
          <a:xfrm>
            <a:off x="85392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Project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Line 4"/>
          <p:cNvSpPr/>
          <p:nvPr/>
        </p:nvSpPr>
        <p:spPr>
          <a:xfrm>
            <a:off x="727200" y="3352680"/>
            <a:ext cx="86364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6"/>
          <p:cNvSpPr/>
          <p:nvPr/>
        </p:nvSpPr>
        <p:spPr>
          <a:xfrm>
            <a:off x="923040" y="3041640"/>
            <a:ext cx="601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11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Line 12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13"/>
          <p:cNvSpPr/>
          <p:nvPr/>
        </p:nvSpPr>
        <p:spPr>
          <a:xfrm>
            <a:off x="1307880" y="2279520"/>
            <a:ext cx="527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14"/>
          <p:cNvSpPr/>
          <p:nvPr/>
        </p:nvSpPr>
        <p:spPr>
          <a:xfrm>
            <a:off x="763920" y="4032360"/>
            <a:ext cx="60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15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16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Line 17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18"/>
          <p:cNvSpPr/>
          <p:nvPr/>
        </p:nvSpPr>
        <p:spPr>
          <a:xfrm>
            <a:off x="1751760" y="50227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19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20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Line 21"/>
          <p:cNvSpPr/>
          <p:nvPr/>
        </p:nvSpPr>
        <p:spPr>
          <a:xfrm>
            <a:off x="1946160" y="3352680"/>
            <a:ext cx="147348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22"/>
          <p:cNvSpPr/>
          <p:nvPr/>
        </p:nvSpPr>
        <p:spPr>
          <a:xfrm>
            <a:off x="2365920" y="3041640"/>
            <a:ext cx="60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 (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23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24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Line 25"/>
          <p:cNvSpPr/>
          <p:nvPr/>
        </p:nvSpPr>
        <p:spPr>
          <a:xfrm>
            <a:off x="3070080" y="5715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26"/>
          <p:cNvSpPr/>
          <p:nvPr/>
        </p:nvSpPr>
        <p:spPr>
          <a:xfrm>
            <a:off x="3432960" y="5403960"/>
            <a:ext cx="57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27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28"/>
          <p:cNvSpPr/>
          <p:nvPr/>
        </p:nvSpPr>
        <p:spPr>
          <a:xfrm>
            <a:off x="5813280" y="5568840"/>
            <a:ext cx="29232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Line 29"/>
          <p:cNvSpPr/>
          <p:nvPr/>
        </p:nvSpPr>
        <p:spPr>
          <a:xfrm>
            <a:off x="4594320" y="5715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30"/>
          <p:cNvSpPr/>
          <p:nvPr/>
        </p:nvSpPr>
        <p:spPr>
          <a:xfrm>
            <a:off x="4798440" y="5403960"/>
            <a:ext cx="623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31"/>
          <p:cNvSpPr/>
          <p:nvPr/>
        </p:nvSpPr>
        <p:spPr>
          <a:xfrm>
            <a:off x="452988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32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33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34"/>
          <p:cNvSpPr/>
          <p:nvPr/>
        </p:nvSpPr>
        <p:spPr>
          <a:xfrm>
            <a:off x="3774960" y="3352680"/>
            <a:ext cx="254016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35"/>
          <p:cNvSpPr/>
          <p:nvPr/>
        </p:nvSpPr>
        <p:spPr>
          <a:xfrm>
            <a:off x="4653720" y="3041640"/>
            <a:ext cx="58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36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37"/>
          <p:cNvSpPr/>
          <p:nvPr/>
        </p:nvSpPr>
        <p:spPr>
          <a:xfrm>
            <a:off x="3809160" y="43369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38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39"/>
          <p:cNvSpPr/>
          <p:nvPr/>
        </p:nvSpPr>
        <p:spPr>
          <a:xfrm flipV="1">
            <a:off x="459432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Rectangle 40"/>
          <p:cNvSpPr/>
          <p:nvPr/>
        </p:nvSpPr>
        <p:spPr>
          <a:xfrm>
            <a:off x="4419720" y="4946760"/>
            <a:ext cx="54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41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Line 42"/>
          <p:cNvSpPr/>
          <p:nvPr/>
        </p:nvSpPr>
        <p:spPr>
          <a:xfrm flipV="1">
            <a:off x="5965920" y="3498840"/>
            <a:ext cx="52056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Rectangle 43"/>
          <p:cNvSpPr/>
          <p:nvPr/>
        </p:nvSpPr>
        <p:spPr>
          <a:xfrm>
            <a:off x="5497200" y="487044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44"/>
          <p:cNvSpPr/>
          <p:nvPr/>
        </p:nvSpPr>
        <p:spPr>
          <a:xfrm>
            <a:off x="62164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Line 45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Rectangle 46"/>
          <p:cNvSpPr/>
          <p:nvPr/>
        </p:nvSpPr>
        <p:spPr>
          <a:xfrm>
            <a:off x="4878360" y="212724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 (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47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Oval 48"/>
          <p:cNvSpPr/>
          <p:nvPr/>
        </p:nvSpPr>
        <p:spPr>
          <a:xfrm>
            <a:off x="7489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49"/>
          <p:cNvSpPr/>
          <p:nvPr/>
        </p:nvSpPr>
        <p:spPr>
          <a:xfrm>
            <a:off x="6670800" y="3352680"/>
            <a:ext cx="78732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50"/>
          <p:cNvSpPr/>
          <p:nvPr/>
        </p:nvSpPr>
        <p:spPr>
          <a:xfrm>
            <a:off x="6703920" y="3041640"/>
            <a:ext cx="657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51"/>
          <p:cNvSpPr/>
          <p:nvPr/>
        </p:nvSpPr>
        <p:spPr>
          <a:xfrm>
            <a:off x="643176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52"/>
          <p:cNvSpPr/>
          <p:nvPr/>
        </p:nvSpPr>
        <p:spPr>
          <a:xfrm>
            <a:off x="870912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Line 53"/>
          <p:cNvSpPr/>
          <p:nvPr/>
        </p:nvSpPr>
        <p:spPr>
          <a:xfrm>
            <a:off x="7813800" y="3352680"/>
            <a:ext cx="86364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54"/>
          <p:cNvSpPr/>
          <p:nvPr/>
        </p:nvSpPr>
        <p:spPr>
          <a:xfrm>
            <a:off x="7768800" y="3041640"/>
            <a:ext cx="62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55"/>
          <p:cNvSpPr/>
          <p:nvPr/>
        </p:nvSpPr>
        <p:spPr>
          <a:xfrm>
            <a:off x="774144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56"/>
          <p:cNvSpPr/>
          <p:nvPr/>
        </p:nvSpPr>
        <p:spPr>
          <a:xfrm>
            <a:off x="90000" y="298440"/>
            <a:ext cx="2633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08"/>
                </a:solidFill>
                <a:latin typeface="Britannic Bold"/>
              </a:rPr>
              <a:t>Path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A-C-E-M-N          =  19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E266-1FDF-4CC0-8860-E48FB458256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2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Line 3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4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5"/>
          <p:cNvSpPr/>
          <p:nvPr/>
        </p:nvSpPr>
        <p:spPr>
          <a:xfrm>
            <a:off x="923040" y="3041640"/>
            <a:ext cx="601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6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7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Line 8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9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10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Line 11"/>
          <p:cNvSpPr/>
          <p:nvPr/>
        </p:nvSpPr>
        <p:spPr>
          <a:xfrm>
            <a:off x="574560" y="3530520"/>
            <a:ext cx="330480" cy="132084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12"/>
          <p:cNvSpPr/>
          <p:nvPr/>
        </p:nvSpPr>
        <p:spPr>
          <a:xfrm>
            <a:off x="1307880" y="2279520"/>
            <a:ext cx="527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13"/>
          <p:cNvSpPr/>
          <p:nvPr/>
        </p:nvSpPr>
        <p:spPr>
          <a:xfrm>
            <a:off x="763920" y="4032360"/>
            <a:ext cx="60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14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15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16"/>
          <p:cNvSpPr/>
          <p:nvPr/>
        </p:nvSpPr>
        <p:spPr>
          <a:xfrm>
            <a:off x="1184400" y="5130720"/>
            <a:ext cx="1549440" cy="55872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17"/>
          <p:cNvSpPr/>
          <p:nvPr/>
        </p:nvSpPr>
        <p:spPr>
          <a:xfrm>
            <a:off x="1751760" y="50227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18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Oval 19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Line 20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21"/>
          <p:cNvSpPr/>
          <p:nvPr/>
        </p:nvSpPr>
        <p:spPr>
          <a:xfrm>
            <a:off x="2365920" y="3041640"/>
            <a:ext cx="60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 (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22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Oval 23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Line 24"/>
          <p:cNvSpPr/>
          <p:nvPr/>
        </p:nvSpPr>
        <p:spPr>
          <a:xfrm>
            <a:off x="3089160" y="5715000"/>
            <a:ext cx="116856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25"/>
          <p:cNvSpPr/>
          <p:nvPr/>
        </p:nvSpPr>
        <p:spPr>
          <a:xfrm>
            <a:off x="3432960" y="5403960"/>
            <a:ext cx="57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26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Oval 27"/>
          <p:cNvSpPr/>
          <p:nvPr/>
        </p:nvSpPr>
        <p:spPr>
          <a:xfrm>
            <a:off x="5813280" y="5568840"/>
            <a:ext cx="29232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28"/>
          <p:cNvSpPr/>
          <p:nvPr/>
        </p:nvSpPr>
        <p:spPr>
          <a:xfrm>
            <a:off x="4613400" y="5715000"/>
            <a:ext cx="116820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29"/>
          <p:cNvSpPr/>
          <p:nvPr/>
        </p:nvSpPr>
        <p:spPr>
          <a:xfrm>
            <a:off x="4798440" y="5403960"/>
            <a:ext cx="623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30"/>
          <p:cNvSpPr/>
          <p:nvPr/>
        </p:nvSpPr>
        <p:spPr>
          <a:xfrm>
            <a:off x="452988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Oval 31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Line 32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Line 33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34"/>
          <p:cNvSpPr/>
          <p:nvPr/>
        </p:nvSpPr>
        <p:spPr>
          <a:xfrm>
            <a:off x="4653720" y="3041640"/>
            <a:ext cx="58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35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36"/>
          <p:cNvSpPr/>
          <p:nvPr/>
        </p:nvSpPr>
        <p:spPr>
          <a:xfrm>
            <a:off x="3809160" y="43369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37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38"/>
          <p:cNvSpPr/>
          <p:nvPr/>
        </p:nvSpPr>
        <p:spPr>
          <a:xfrm flipV="1">
            <a:off x="459432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39"/>
          <p:cNvSpPr/>
          <p:nvPr/>
        </p:nvSpPr>
        <p:spPr>
          <a:xfrm>
            <a:off x="4419720" y="4946760"/>
            <a:ext cx="54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40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41"/>
          <p:cNvSpPr/>
          <p:nvPr/>
        </p:nvSpPr>
        <p:spPr>
          <a:xfrm flipV="1">
            <a:off x="5985000" y="3479760"/>
            <a:ext cx="482400" cy="210816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42"/>
          <p:cNvSpPr/>
          <p:nvPr/>
        </p:nvSpPr>
        <p:spPr>
          <a:xfrm>
            <a:off x="5497200" y="487044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43"/>
          <p:cNvSpPr/>
          <p:nvPr/>
        </p:nvSpPr>
        <p:spPr>
          <a:xfrm>
            <a:off x="62164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44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45"/>
          <p:cNvSpPr/>
          <p:nvPr/>
        </p:nvSpPr>
        <p:spPr>
          <a:xfrm>
            <a:off x="4878360" y="212724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 (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46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47"/>
          <p:cNvSpPr/>
          <p:nvPr/>
        </p:nvSpPr>
        <p:spPr>
          <a:xfrm>
            <a:off x="7489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Line 48"/>
          <p:cNvSpPr/>
          <p:nvPr/>
        </p:nvSpPr>
        <p:spPr>
          <a:xfrm>
            <a:off x="6670800" y="3352680"/>
            <a:ext cx="78732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49"/>
          <p:cNvSpPr/>
          <p:nvPr/>
        </p:nvSpPr>
        <p:spPr>
          <a:xfrm>
            <a:off x="6703920" y="3041640"/>
            <a:ext cx="657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50"/>
          <p:cNvSpPr/>
          <p:nvPr/>
        </p:nvSpPr>
        <p:spPr>
          <a:xfrm>
            <a:off x="643176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Oval 51"/>
          <p:cNvSpPr/>
          <p:nvPr/>
        </p:nvSpPr>
        <p:spPr>
          <a:xfrm>
            <a:off x="870912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Line 52"/>
          <p:cNvSpPr/>
          <p:nvPr/>
        </p:nvSpPr>
        <p:spPr>
          <a:xfrm>
            <a:off x="7813800" y="3352680"/>
            <a:ext cx="86364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53"/>
          <p:cNvSpPr/>
          <p:nvPr/>
        </p:nvSpPr>
        <p:spPr>
          <a:xfrm>
            <a:off x="7768800" y="3041640"/>
            <a:ext cx="62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54"/>
          <p:cNvSpPr/>
          <p:nvPr/>
        </p:nvSpPr>
        <p:spPr>
          <a:xfrm>
            <a:off x="774144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55"/>
          <p:cNvSpPr/>
          <p:nvPr/>
        </p:nvSpPr>
        <p:spPr>
          <a:xfrm>
            <a:off x="95760" y="298440"/>
            <a:ext cx="27342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08"/>
                </a:solidFill>
                <a:latin typeface="Britannic Bold"/>
              </a:rPr>
              <a:t>Path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-C-E-M-N          =  19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B-D-F-H-K-M-N    =  22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56"/>
          <p:cNvSpPr/>
          <p:nvPr/>
        </p:nvSpPr>
        <p:spPr>
          <a:xfrm>
            <a:off x="85392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Project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E934-2D42-4A79-BB2A-2D1B363BCE7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Oval 2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3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Oval 4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5"/>
          <p:cNvSpPr/>
          <p:nvPr/>
        </p:nvSpPr>
        <p:spPr>
          <a:xfrm>
            <a:off x="923040" y="3041640"/>
            <a:ext cx="601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6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Oval 7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8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9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Oval 10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11"/>
          <p:cNvSpPr/>
          <p:nvPr/>
        </p:nvSpPr>
        <p:spPr>
          <a:xfrm>
            <a:off x="574560" y="3530520"/>
            <a:ext cx="330480" cy="132084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12"/>
          <p:cNvSpPr/>
          <p:nvPr/>
        </p:nvSpPr>
        <p:spPr>
          <a:xfrm>
            <a:off x="1307880" y="2279520"/>
            <a:ext cx="527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13"/>
          <p:cNvSpPr/>
          <p:nvPr/>
        </p:nvSpPr>
        <p:spPr>
          <a:xfrm>
            <a:off x="763920" y="4032360"/>
            <a:ext cx="60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14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15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6"/>
          <p:cNvSpPr/>
          <p:nvPr/>
        </p:nvSpPr>
        <p:spPr>
          <a:xfrm>
            <a:off x="1184400" y="5130720"/>
            <a:ext cx="1549440" cy="55872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17"/>
          <p:cNvSpPr/>
          <p:nvPr/>
        </p:nvSpPr>
        <p:spPr>
          <a:xfrm>
            <a:off x="1751760" y="50227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18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19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0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21"/>
          <p:cNvSpPr/>
          <p:nvPr/>
        </p:nvSpPr>
        <p:spPr>
          <a:xfrm>
            <a:off x="2365920" y="3041640"/>
            <a:ext cx="60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 (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Rectangle 22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23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4"/>
          <p:cNvSpPr/>
          <p:nvPr/>
        </p:nvSpPr>
        <p:spPr>
          <a:xfrm>
            <a:off x="3089160" y="5715000"/>
            <a:ext cx="116856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Rectangle 25"/>
          <p:cNvSpPr/>
          <p:nvPr/>
        </p:nvSpPr>
        <p:spPr>
          <a:xfrm>
            <a:off x="3432960" y="5403960"/>
            <a:ext cx="57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26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27"/>
          <p:cNvSpPr/>
          <p:nvPr/>
        </p:nvSpPr>
        <p:spPr>
          <a:xfrm>
            <a:off x="5813280" y="5568840"/>
            <a:ext cx="29232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8"/>
          <p:cNvSpPr/>
          <p:nvPr/>
        </p:nvSpPr>
        <p:spPr>
          <a:xfrm>
            <a:off x="4594320" y="5715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Rectangle 29"/>
          <p:cNvSpPr/>
          <p:nvPr/>
        </p:nvSpPr>
        <p:spPr>
          <a:xfrm>
            <a:off x="4798440" y="5403960"/>
            <a:ext cx="623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Rectangle 30"/>
          <p:cNvSpPr/>
          <p:nvPr/>
        </p:nvSpPr>
        <p:spPr>
          <a:xfrm>
            <a:off x="452988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31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32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33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Rectangle 34"/>
          <p:cNvSpPr/>
          <p:nvPr/>
        </p:nvSpPr>
        <p:spPr>
          <a:xfrm>
            <a:off x="4653720" y="3041640"/>
            <a:ext cx="58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Rectangle 35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Rectangle 36"/>
          <p:cNvSpPr/>
          <p:nvPr/>
        </p:nvSpPr>
        <p:spPr>
          <a:xfrm>
            <a:off x="3809160" y="43369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Rectangle 37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8"/>
          <p:cNvSpPr/>
          <p:nvPr/>
        </p:nvSpPr>
        <p:spPr>
          <a:xfrm flipV="1">
            <a:off x="4613400" y="3479760"/>
            <a:ext cx="1778040" cy="210816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Rectangle 39"/>
          <p:cNvSpPr/>
          <p:nvPr/>
        </p:nvSpPr>
        <p:spPr>
          <a:xfrm>
            <a:off x="4419720" y="4946760"/>
            <a:ext cx="54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Rectangle 40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41"/>
          <p:cNvSpPr/>
          <p:nvPr/>
        </p:nvSpPr>
        <p:spPr>
          <a:xfrm flipV="1">
            <a:off x="5965920" y="3498840"/>
            <a:ext cx="52056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42"/>
          <p:cNvSpPr/>
          <p:nvPr/>
        </p:nvSpPr>
        <p:spPr>
          <a:xfrm>
            <a:off x="5497200" y="487044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43"/>
          <p:cNvSpPr/>
          <p:nvPr/>
        </p:nvSpPr>
        <p:spPr>
          <a:xfrm>
            <a:off x="62164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44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Rectangle 45"/>
          <p:cNvSpPr/>
          <p:nvPr/>
        </p:nvSpPr>
        <p:spPr>
          <a:xfrm>
            <a:off x="4878360" y="212724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 (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Rectangle 46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Oval 47"/>
          <p:cNvSpPr/>
          <p:nvPr/>
        </p:nvSpPr>
        <p:spPr>
          <a:xfrm>
            <a:off x="7489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Line 48"/>
          <p:cNvSpPr/>
          <p:nvPr/>
        </p:nvSpPr>
        <p:spPr>
          <a:xfrm>
            <a:off x="6670800" y="3352680"/>
            <a:ext cx="78732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49"/>
          <p:cNvSpPr/>
          <p:nvPr/>
        </p:nvSpPr>
        <p:spPr>
          <a:xfrm>
            <a:off x="6703920" y="3041640"/>
            <a:ext cx="657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50"/>
          <p:cNvSpPr/>
          <p:nvPr/>
        </p:nvSpPr>
        <p:spPr>
          <a:xfrm>
            <a:off x="643176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Oval 51"/>
          <p:cNvSpPr/>
          <p:nvPr/>
        </p:nvSpPr>
        <p:spPr>
          <a:xfrm>
            <a:off x="870912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52"/>
          <p:cNvSpPr/>
          <p:nvPr/>
        </p:nvSpPr>
        <p:spPr>
          <a:xfrm>
            <a:off x="7813800" y="3352680"/>
            <a:ext cx="86364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53"/>
          <p:cNvSpPr/>
          <p:nvPr/>
        </p:nvSpPr>
        <p:spPr>
          <a:xfrm>
            <a:off x="7768800" y="3041640"/>
            <a:ext cx="62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54"/>
          <p:cNvSpPr/>
          <p:nvPr/>
        </p:nvSpPr>
        <p:spPr>
          <a:xfrm>
            <a:off x="774144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55"/>
          <p:cNvSpPr/>
          <p:nvPr/>
        </p:nvSpPr>
        <p:spPr>
          <a:xfrm>
            <a:off x="85680" y="298440"/>
            <a:ext cx="29581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08"/>
                </a:solidFill>
                <a:latin typeface="Britannic Bold"/>
              </a:rPr>
              <a:t>Path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-C-E-M-N   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19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-D-F-H-K-M-N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 22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B-D-F-I-M-N       </a:t>
            </a: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=  18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56"/>
          <p:cNvSpPr/>
          <p:nvPr/>
        </p:nvSpPr>
        <p:spPr>
          <a:xfrm>
            <a:off x="85392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Project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0A58-6A2C-4F3B-BCA6-4227A8897FD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2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Line 3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4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5"/>
          <p:cNvSpPr/>
          <p:nvPr/>
        </p:nvSpPr>
        <p:spPr>
          <a:xfrm>
            <a:off x="923040" y="3041640"/>
            <a:ext cx="601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6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Oval 7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Line 8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9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Oval 10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Line 11"/>
          <p:cNvSpPr/>
          <p:nvPr/>
        </p:nvSpPr>
        <p:spPr>
          <a:xfrm>
            <a:off x="574560" y="3530520"/>
            <a:ext cx="330480" cy="132084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12"/>
          <p:cNvSpPr/>
          <p:nvPr/>
        </p:nvSpPr>
        <p:spPr>
          <a:xfrm>
            <a:off x="1307880" y="2279520"/>
            <a:ext cx="527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13"/>
          <p:cNvSpPr/>
          <p:nvPr/>
        </p:nvSpPr>
        <p:spPr>
          <a:xfrm>
            <a:off x="763920" y="4032360"/>
            <a:ext cx="60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14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Oval 15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16"/>
          <p:cNvSpPr/>
          <p:nvPr/>
        </p:nvSpPr>
        <p:spPr>
          <a:xfrm>
            <a:off x="1184400" y="5130720"/>
            <a:ext cx="1549440" cy="55872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17"/>
          <p:cNvSpPr/>
          <p:nvPr/>
        </p:nvSpPr>
        <p:spPr>
          <a:xfrm>
            <a:off x="1751760" y="50227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18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19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Line 20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21"/>
          <p:cNvSpPr/>
          <p:nvPr/>
        </p:nvSpPr>
        <p:spPr>
          <a:xfrm>
            <a:off x="2365920" y="3041640"/>
            <a:ext cx="60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 (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22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23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Line 24"/>
          <p:cNvSpPr/>
          <p:nvPr/>
        </p:nvSpPr>
        <p:spPr>
          <a:xfrm>
            <a:off x="3070080" y="5715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25"/>
          <p:cNvSpPr/>
          <p:nvPr/>
        </p:nvSpPr>
        <p:spPr>
          <a:xfrm>
            <a:off x="3432960" y="5403960"/>
            <a:ext cx="57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26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27"/>
          <p:cNvSpPr/>
          <p:nvPr/>
        </p:nvSpPr>
        <p:spPr>
          <a:xfrm>
            <a:off x="5813280" y="5568840"/>
            <a:ext cx="29232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28"/>
          <p:cNvSpPr/>
          <p:nvPr/>
        </p:nvSpPr>
        <p:spPr>
          <a:xfrm>
            <a:off x="4594320" y="5715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29"/>
          <p:cNvSpPr/>
          <p:nvPr/>
        </p:nvSpPr>
        <p:spPr>
          <a:xfrm>
            <a:off x="4798440" y="5403960"/>
            <a:ext cx="623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30"/>
          <p:cNvSpPr/>
          <p:nvPr/>
        </p:nvSpPr>
        <p:spPr>
          <a:xfrm>
            <a:off x="452988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31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Line 32"/>
          <p:cNvSpPr/>
          <p:nvPr/>
        </p:nvSpPr>
        <p:spPr>
          <a:xfrm flipV="1">
            <a:off x="3013200" y="3403440"/>
            <a:ext cx="3301920" cy="218448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Line 33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34"/>
          <p:cNvSpPr/>
          <p:nvPr/>
        </p:nvSpPr>
        <p:spPr>
          <a:xfrm>
            <a:off x="4653720" y="3041640"/>
            <a:ext cx="58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35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36"/>
          <p:cNvSpPr/>
          <p:nvPr/>
        </p:nvSpPr>
        <p:spPr>
          <a:xfrm>
            <a:off x="3809160" y="43369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37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38"/>
          <p:cNvSpPr/>
          <p:nvPr/>
        </p:nvSpPr>
        <p:spPr>
          <a:xfrm flipV="1">
            <a:off x="459432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39"/>
          <p:cNvSpPr/>
          <p:nvPr/>
        </p:nvSpPr>
        <p:spPr>
          <a:xfrm>
            <a:off x="4419720" y="4946760"/>
            <a:ext cx="54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40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41"/>
          <p:cNvSpPr/>
          <p:nvPr/>
        </p:nvSpPr>
        <p:spPr>
          <a:xfrm flipV="1">
            <a:off x="5965920" y="3498840"/>
            <a:ext cx="52056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42"/>
          <p:cNvSpPr/>
          <p:nvPr/>
        </p:nvSpPr>
        <p:spPr>
          <a:xfrm>
            <a:off x="5497200" y="487044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43"/>
          <p:cNvSpPr/>
          <p:nvPr/>
        </p:nvSpPr>
        <p:spPr>
          <a:xfrm>
            <a:off x="62164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44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45"/>
          <p:cNvSpPr/>
          <p:nvPr/>
        </p:nvSpPr>
        <p:spPr>
          <a:xfrm>
            <a:off x="4878360" y="212724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 (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46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Oval 47"/>
          <p:cNvSpPr/>
          <p:nvPr/>
        </p:nvSpPr>
        <p:spPr>
          <a:xfrm>
            <a:off x="7489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48"/>
          <p:cNvSpPr/>
          <p:nvPr/>
        </p:nvSpPr>
        <p:spPr>
          <a:xfrm>
            <a:off x="6670800" y="3352680"/>
            <a:ext cx="78732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49"/>
          <p:cNvSpPr/>
          <p:nvPr/>
        </p:nvSpPr>
        <p:spPr>
          <a:xfrm>
            <a:off x="6703920" y="3041640"/>
            <a:ext cx="657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50"/>
          <p:cNvSpPr/>
          <p:nvPr/>
        </p:nvSpPr>
        <p:spPr>
          <a:xfrm>
            <a:off x="643176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51"/>
          <p:cNvSpPr/>
          <p:nvPr/>
        </p:nvSpPr>
        <p:spPr>
          <a:xfrm>
            <a:off x="870912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52"/>
          <p:cNvSpPr/>
          <p:nvPr/>
        </p:nvSpPr>
        <p:spPr>
          <a:xfrm>
            <a:off x="7813800" y="3352680"/>
            <a:ext cx="86364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53"/>
          <p:cNvSpPr/>
          <p:nvPr/>
        </p:nvSpPr>
        <p:spPr>
          <a:xfrm>
            <a:off x="7768800" y="3041640"/>
            <a:ext cx="62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54"/>
          <p:cNvSpPr/>
          <p:nvPr/>
        </p:nvSpPr>
        <p:spPr>
          <a:xfrm>
            <a:off x="774144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55"/>
          <p:cNvSpPr/>
          <p:nvPr/>
        </p:nvSpPr>
        <p:spPr>
          <a:xfrm>
            <a:off x="85680" y="298440"/>
            <a:ext cx="38725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08"/>
                </a:solidFill>
                <a:latin typeface="Britannic Bold"/>
              </a:rPr>
              <a:t>Path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-C-E-M-N   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19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-D-F-H-K-M-N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 22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-D-F-J-M-N     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 18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B-D-G-M-N</a:t>
            </a: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=  15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56"/>
          <p:cNvSpPr/>
          <p:nvPr/>
        </p:nvSpPr>
        <p:spPr>
          <a:xfrm>
            <a:off x="85392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Project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DF38-B48E-4A81-BCBD-AFFC668C1F4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Oval 2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Line 3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Oval 4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5"/>
          <p:cNvSpPr/>
          <p:nvPr/>
        </p:nvSpPr>
        <p:spPr>
          <a:xfrm>
            <a:off x="923040" y="3041640"/>
            <a:ext cx="601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6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Oval 7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8"/>
          <p:cNvSpPr/>
          <p:nvPr/>
        </p:nvSpPr>
        <p:spPr>
          <a:xfrm flipV="1">
            <a:off x="727200" y="1879200"/>
            <a:ext cx="2463840" cy="142236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9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Oval 10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11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12"/>
          <p:cNvSpPr/>
          <p:nvPr/>
        </p:nvSpPr>
        <p:spPr>
          <a:xfrm>
            <a:off x="1307880" y="2279520"/>
            <a:ext cx="527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13"/>
          <p:cNvSpPr/>
          <p:nvPr/>
        </p:nvSpPr>
        <p:spPr>
          <a:xfrm>
            <a:off x="763920" y="4032360"/>
            <a:ext cx="60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14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Oval 15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16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Rectangle 17"/>
          <p:cNvSpPr/>
          <p:nvPr/>
        </p:nvSpPr>
        <p:spPr>
          <a:xfrm>
            <a:off x="1751760" y="50227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18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Oval 19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Line 20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Rectangle 21"/>
          <p:cNvSpPr/>
          <p:nvPr/>
        </p:nvSpPr>
        <p:spPr>
          <a:xfrm>
            <a:off x="2365920" y="3041640"/>
            <a:ext cx="60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 (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22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Oval 23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Line 24"/>
          <p:cNvSpPr/>
          <p:nvPr/>
        </p:nvSpPr>
        <p:spPr>
          <a:xfrm>
            <a:off x="3070080" y="5715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Rectangle 25"/>
          <p:cNvSpPr/>
          <p:nvPr/>
        </p:nvSpPr>
        <p:spPr>
          <a:xfrm>
            <a:off x="3432960" y="5403960"/>
            <a:ext cx="57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Rectangle 26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Oval 27"/>
          <p:cNvSpPr/>
          <p:nvPr/>
        </p:nvSpPr>
        <p:spPr>
          <a:xfrm>
            <a:off x="5813280" y="5568840"/>
            <a:ext cx="29232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Line 28"/>
          <p:cNvSpPr/>
          <p:nvPr/>
        </p:nvSpPr>
        <p:spPr>
          <a:xfrm>
            <a:off x="4594320" y="5715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Rectangle 29"/>
          <p:cNvSpPr/>
          <p:nvPr/>
        </p:nvSpPr>
        <p:spPr>
          <a:xfrm>
            <a:off x="4798440" y="5403960"/>
            <a:ext cx="623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Rectangle 30"/>
          <p:cNvSpPr/>
          <p:nvPr/>
        </p:nvSpPr>
        <p:spPr>
          <a:xfrm>
            <a:off x="452988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31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Line 32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Line 33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Rectangle 34"/>
          <p:cNvSpPr/>
          <p:nvPr/>
        </p:nvSpPr>
        <p:spPr>
          <a:xfrm>
            <a:off x="4653720" y="3041640"/>
            <a:ext cx="58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Rectangle 35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6"/>
          <p:cNvSpPr/>
          <p:nvPr/>
        </p:nvSpPr>
        <p:spPr>
          <a:xfrm>
            <a:off x="3809160" y="43369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Rectangle 37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Line 38"/>
          <p:cNvSpPr/>
          <p:nvPr/>
        </p:nvSpPr>
        <p:spPr>
          <a:xfrm flipV="1">
            <a:off x="459432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39"/>
          <p:cNvSpPr/>
          <p:nvPr/>
        </p:nvSpPr>
        <p:spPr>
          <a:xfrm>
            <a:off x="4431960" y="4946760"/>
            <a:ext cx="527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40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Line 41"/>
          <p:cNvSpPr/>
          <p:nvPr/>
        </p:nvSpPr>
        <p:spPr>
          <a:xfrm flipV="1">
            <a:off x="5965920" y="3498840"/>
            <a:ext cx="52056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42"/>
          <p:cNvSpPr/>
          <p:nvPr/>
        </p:nvSpPr>
        <p:spPr>
          <a:xfrm>
            <a:off x="5497200" y="487044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43"/>
          <p:cNvSpPr/>
          <p:nvPr/>
        </p:nvSpPr>
        <p:spPr>
          <a:xfrm>
            <a:off x="62164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Line 44"/>
          <p:cNvSpPr/>
          <p:nvPr/>
        </p:nvSpPr>
        <p:spPr>
          <a:xfrm>
            <a:off x="3546360" y="1930320"/>
            <a:ext cx="2845080" cy="124452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45"/>
          <p:cNvSpPr/>
          <p:nvPr/>
        </p:nvSpPr>
        <p:spPr>
          <a:xfrm>
            <a:off x="4878360" y="212724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 (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46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47"/>
          <p:cNvSpPr/>
          <p:nvPr/>
        </p:nvSpPr>
        <p:spPr>
          <a:xfrm>
            <a:off x="7489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Line 48"/>
          <p:cNvSpPr/>
          <p:nvPr/>
        </p:nvSpPr>
        <p:spPr>
          <a:xfrm>
            <a:off x="6670800" y="3352680"/>
            <a:ext cx="78732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49"/>
          <p:cNvSpPr/>
          <p:nvPr/>
        </p:nvSpPr>
        <p:spPr>
          <a:xfrm>
            <a:off x="6703920" y="3041640"/>
            <a:ext cx="657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50"/>
          <p:cNvSpPr/>
          <p:nvPr/>
        </p:nvSpPr>
        <p:spPr>
          <a:xfrm>
            <a:off x="643176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51"/>
          <p:cNvSpPr/>
          <p:nvPr/>
        </p:nvSpPr>
        <p:spPr>
          <a:xfrm>
            <a:off x="870912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Line 52"/>
          <p:cNvSpPr/>
          <p:nvPr/>
        </p:nvSpPr>
        <p:spPr>
          <a:xfrm>
            <a:off x="7813800" y="3352680"/>
            <a:ext cx="86364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53"/>
          <p:cNvSpPr/>
          <p:nvPr/>
        </p:nvSpPr>
        <p:spPr>
          <a:xfrm>
            <a:off x="7768800" y="3041640"/>
            <a:ext cx="62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54"/>
          <p:cNvSpPr/>
          <p:nvPr/>
        </p:nvSpPr>
        <p:spPr>
          <a:xfrm>
            <a:off x="774144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55"/>
          <p:cNvSpPr/>
          <p:nvPr/>
        </p:nvSpPr>
        <p:spPr>
          <a:xfrm>
            <a:off x="85680" y="298440"/>
            <a:ext cx="387252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08"/>
                </a:solidFill>
                <a:latin typeface="Britannic Bold"/>
              </a:rPr>
              <a:t>Path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-C-E-M-N   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19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-D-F-H-K-M-N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 22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-D-F-J-M-N     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 18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-D-G-M-N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 15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J-L-M-N</a:t>
            </a: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=  18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56"/>
          <p:cNvSpPr/>
          <p:nvPr/>
        </p:nvSpPr>
        <p:spPr>
          <a:xfrm>
            <a:off x="85392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Project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D3F2-CD73-42E8-A5D3-F92E2546C82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"/>
          <p:cNvSpPr/>
          <p:nvPr/>
        </p:nvSpPr>
        <p:spPr>
          <a:xfrm>
            <a:off x="1021680" y="2295360"/>
            <a:ext cx="6060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Britannic Bold"/>
              </a:rPr>
              <a:t>The Critical Path is the </a:t>
            </a:r>
            <a:r>
              <a:rPr b="0" i="1" lang="en-US" sz="2800" spc="-1" strike="noStrike" u="sng">
                <a:solidFill>
                  <a:srgbClr val="ff5008"/>
                </a:solidFill>
                <a:uFillTx/>
                <a:latin typeface="Britannic Bold"/>
              </a:rPr>
              <a:t>Longest</a:t>
            </a:r>
            <a:r>
              <a:rPr b="0" lang="en-US" sz="2800" spc="-1" strike="noStrike">
                <a:solidFill>
                  <a:srgbClr val="ff5008"/>
                </a:solidFill>
                <a:latin typeface="Britannic Bold"/>
              </a:rPr>
              <a:t>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Britannic Bold"/>
              </a:rPr>
              <a:t>Through the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F5EA-BC6E-4D83-B525-46397E7977C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Oval 2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Line 3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val 4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5"/>
          <p:cNvSpPr/>
          <p:nvPr/>
        </p:nvSpPr>
        <p:spPr>
          <a:xfrm>
            <a:off x="923040" y="3041640"/>
            <a:ext cx="601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6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Oval 7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Line 8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9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Oval 10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Line 11"/>
          <p:cNvSpPr/>
          <p:nvPr/>
        </p:nvSpPr>
        <p:spPr>
          <a:xfrm>
            <a:off x="574560" y="3530520"/>
            <a:ext cx="330480" cy="132084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12"/>
          <p:cNvSpPr/>
          <p:nvPr/>
        </p:nvSpPr>
        <p:spPr>
          <a:xfrm>
            <a:off x="1307880" y="2279520"/>
            <a:ext cx="527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13"/>
          <p:cNvSpPr/>
          <p:nvPr/>
        </p:nvSpPr>
        <p:spPr>
          <a:xfrm>
            <a:off x="763920" y="4032360"/>
            <a:ext cx="60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14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Oval 15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Line 16"/>
          <p:cNvSpPr/>
          <p:nvPr/>
        </p:nvSpPr>
        <p:spPr>
          <a:xfrm>
            <a:off x="1184400" y="5130720"/>
            <a:ext cx="1549440" cy="55872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17"/>
          <p:cNvSpPr/>
          <p:nvPr/>
        </p:nvSpPr>
        <p:spPr>
          <a:xfrm>
            <a:off x="1751760" y="50227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18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Oval 19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Line 20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21"/>
          <p:cNvSpPr/>
          <p:nvPr/>
        </p:nvSpPr>
        <p:spPr>
          <a:xfrm>
            <a:off x="2365920" y="3041640"/>
            <a:ext cx="60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 (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22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23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Line 24"/>
          <p:cNvSpPr/>
          <p:nvPr/>
        </p:nvSpPr>
        <p:spPr>
          <a:xfrm>
            <a:off x="3089160" y="5715000"/>
            <a:ext cx="116856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25"/>
          <p:cNvSpPr/>
          <p:nvPr/>
        </p:nvSpPr>
        <p:spPr>
          <a:xfrm>
            <a:off x="3432960" y="5403960"/>
            <a:ext cx="57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26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27"/>
          <p:cNvSpPr/>
          <p:nvPr/>
        </p:nvSpPr>
        <p:spPr>
          <a:xfrm>
            <a:off x="5813280" y="5568840"/>
            <a:ext cx="29232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Line 28"/>
          <p:cNvSpPr/>
          <p:nvPr/>
        </p:nvSpPr>
        <p:spPr>
          <a:xfrm>
            <a:off x="4613400" y="5715000"/>
            <a:ext cx="116820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29"/>
          <p:cNvSpPr/>
          <p:nvPr/>
        </p:nvSpPr>
        <p:spPr>
          <a:xfrm>
            <a:off x="4798440" y="5403960"/>
            <a:ext cx="623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30"/>
          <p:cNvSpPr/>
          <p:nvPr/>
        </p:nvSpPr>
        <p:spPr>
          <a:xfrm>
            <a:off x="452988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1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Line 32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Line 33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34"/>
          <p:cNvSpPr/>
          <p:nvPr/>
        </p:nvSpPr>
        <p:spPr>
          <a:xfrm>
            <a:off x="4653720" y="3041640"/>
            <a:ext cx="58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35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36"/>
          <p:cNvSpPr/>
          <p:nvPr/>
        </p:nvSpPr>
        <p:spPr>
          <a:xfrm>
            <a:off x="3809160" y="43369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37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Line 38"/>
          <p:cNvSpPr/>
          <p:nvPr/>
        </p:nvSpPr>
        <p:spPr>
          <a:xfrm flipV="1">
            <a:off x="459432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39"/>
          <p:cNvSpPr/>
          <p:nvPr/>
        </p:nvSpPr>
        <p:spPr>
          <a:xfrm>
            <a:off x="4419720" y="4946760"/>
            <a:ext cx="54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40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Line 41"/>
          <p:cNvSpPr/>
          <p:nvPr/>
        </p:nvSpPr>
        <p:spPr>
          <a:xfrm flipV="1">
            <a:off x="5985000" y="3479760"/>
            <a:ext cx="482400" cy="210816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42"/>
          <p:cNvSpPr/>
          <p:nvPr/>
        </p:nvSpPr>
        <p:spPr>
          <a:xfrm>
            <a:off x="5497200" y="487044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43"/>
          <p:cNvSpPr/>
          <p:nvPr/>
        </p:nvSpPr>
        <p:spPr>
          <a:xfrm>
            <a:off x="62164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Line 44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45"/>
          <p:cNvSpPr/>
          <p:nvPr/>
        </p:nvSpPr>
        <p:spPr>
          <a:xfrm>
            <a:off x="4878360" y="212724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 (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46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47"/>
          <p:cNvSpPr/>
          <p:nvPr/>
        </p:nvSpPr>
        <p:spPr>
          <a:xfrm>
            <a:off x="7489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48"/>
          <p:cNvSpPr/>
          <p:nvPr/>
        </p:nvSpPr>
        <p:spPr>
          <a:xfrm>
            <a:off x="6670800" y="3352680"/>
            <a:ext cx="78732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49"/>
          <p:cNvSpPr/>
          <p:nvPr/>
        </p:nvSpPr>
        <p:spPr>
          <a:xfrm>
            <a:off x="6703920" y="3041640"/>
            <a:ext cx="657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50"/>
          <p:cNvSpPr/>
          <p:nvPr/>
        </p:nvSpPr>
        <p:spPr>
          <a:xfrm>
            <a:off x="643176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Oval 51"/>
          <p:cNvSpPr/>
          <p:nvPr/>
        </p:nvSpPr>
        <p:spPr>
          <a:xfrm>
            <a:off x="870912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52"/>
          <p:cNvSpPr/>
          <p:nvPr/>
        </p:nvSpPr>
        <p:spPr>
          <a:xfrm>
            <a:off x="7813800" y="3352680"/>
            <a:ext cx="86364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53"/>
          <p:cNvSpPr/>
          <p:nvPr/>
        </p:nvSpPr>
        <p:spPr>
          <a:xfrm>
            <a:off x="7768800" y="3041640"/>
            <a:ext cx="62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54"/>
          <p:cNvSpPr/>
          <p:nvPr/>
        </p:nvSpPr>
        <p:spPr>
          <a:xfrm>
            <a:off x="774144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55"/>
          <p:cNvSpPr/>
          <p:nvPr/>
        </p:nvSpPr>
        <p:spPr>
          <a:xfrm>
            <a:off x="1311120" y="381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Network Diagram Canoe Example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Critical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56"/>
          <p:cNvSpPr/>
          <p:nvPr/>
        </p:nvSpPr>
        <p:spPr>
          <a:xfrm>
            <a:off x="-1440" y="69840"/>
            <a:ext cx="327348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08"/>
                </a:solidFill>
                <a:latin typeface="Britannic Bold"/>
              </a:rPr>
              <a:t>Path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-C-E-M-N   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19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Britannic Bold"/>
              </a:rPr>
              <a:t>B-D-F-H-K-M-N =  22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-D-F-J-M-N     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 18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-D-G-M-N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 15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-L-M-N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 18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20A4-72A9-4D2E-9D3A-09C05E98959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2"/>
          <p:cNvSpPr/>
          <p:nvPr/>
        </p:nvSpPr>
        <p:spPr>
          <a:xfrm>
            <a:off x="838080" y="1904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Completed 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Task Time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Rectangle 3"/>
          <p:cNvSpPr/>
          <p:nvPr/>
        </p:nvSpPr>
        <p:spPr>
          <a:xfrm>
            <a:off x="-406080" y="1266840"/>
            <a:ext cx="9340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Task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   Description        Immediate Predecessor   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Time      ES    LS      EF     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4"/>
          <p:cNvSpPr/>
          <p:nvPr/>
        </p:nvSpPr>
        <p:spPr>
          <a:xfrm>
            <a:off x="698400" y="1752480"/>
            <a:ext cx="812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5"/>
          <p:cNvSpPr/>
          <p:nvPr/>
        </p:nvSpPr>
        <p:spPr>
          <a:xfrm>
            <a:off x="-402120" y="1876320"/>
            <a:ext cx="926892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epare Dock Sit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0      3        3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epare Hut Sit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0      0        4     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nstall Dock Piling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6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     6        9    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undation for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     4        7    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uild Dock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9     12     13    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rame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7      7      10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ower to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7     14       9    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ide the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  10     12    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oof the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  13     13    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rder Canoes and Receive Canoe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0       4       2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K         Paint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2   12     16    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ssemble Canoe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2     6      12    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inish Landscapin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L,I,K,E,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6   16     20     2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pen for Busines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           20   20     22    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A1E4-FB4D-4AC7-85B3-7913ED2CFF1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378080" y="2216160"/>
            <a:ext cx="646416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Build Canoe Rental Building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Coeur d A’lene 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7119-0F39-4D87-8545-BC59C86FB12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ack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3"/>
          <p:cNvSpPr/>
          <p:nvPr/>
        </p:nvSpPr>
        <p:spPr>
          <a:xfrm>
            <a:off x="409320" y="1990800"/>
            <a:ext cx="837000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tal Slack = The length of time an activity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delayed without affecting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completion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tal Slack  =  Late Start - Early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tal Slack  =  Late Finish - Early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AutoShape 4"/>
          <p:cNvSpPr/>
          <p:nvPr/>
        </p:nvSpPr>
        <p:spPr>
          <a:xfrm>
            <a:off x="7162920" y="403848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5"/>
          <p:cNvSpPr/>
          <p:nvPr/>
        </p:nvSpPr>
        <p:spPr>
          <a:xfrm>
            <a:off x="7608600" y="4253040"/>
            <a:ext cx="112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6"/>
          <p:cNvSpPr/>
          <p:nvPr/>
        </p:nvSpPr>
        <p:spPr>
          <a:xfrm>
            <a:off x="409680" y="5553000"/>
            <a:ext cx="90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Free Slack  =  The time a task can be delayed with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delaying another t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A1D5-ADC7-4A53-86BD-473CC21E295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Rectangle 2"/>
          <p:cNvSpPr/>
          <p:nvPr/>
        </p:nvSpPr>
        <p:spPr>
          <a:xfrm>
            <a:off x="838080" y="1904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Slack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Rectangle 3"/>
          <p:cNvSpPr/>
          <p:nvPr/>
        </p:nvSpPr>
        <p:spPr>
          <a:xfrm>
            <a:off x="29520" y="1266840"/>
            <a:ext cx="914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Task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   Description      Immediate Predecessor   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Time      ES    LS      EF     LF   S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Line 4"/>
          <p:cNvSpPr/>
          <p:nvPr/>
        </p:nvSpPr>
        <p:spPr>
          <a:xfrm>
            <a:off x="698400" y="1752480"/>
            <a:ext cx="835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Rectangle 5"/>
          <p:cNvSpPr/>
          <p:nvPr/>
        </p:nvSpPr>
        <p:spPr>
          <a:xfrm>
            <a:off x="-462960" y="1876320"/>
            <a:ext cx="981612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epare Dock Sit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0      3        3      6 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epare Hut Sit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0      0        4      4</a:t>
            </a:r>
            <a:r>
              <a:rPr b="1" lang="en-US" sz="1800" spc="-1" strike="noStrike">
                <a:solidFill>
                  <a:srgbClr val="00279f"/>
                </a:solidFill>
                <a:latin typeface="Book Antiqua"/>
              </a:rPr>
              <a:t> 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nstall Dock Piling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6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     6        9     12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undation for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     4        7      7 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uild Dock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9     12     13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rame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7      7      10     10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ower to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7     14       9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ide the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  10     12     12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oof the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  13     13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rder Canoes and Receive Canoe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0       4       2       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K         Paint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2   12     16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ssemble Canoe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2     6      12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inish Landscapin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L,I,K,E,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6   16     20     20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pen for Busines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           20   20     22     22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0178-1E48-42DB-9388-F82B45489C8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Path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Rectangle 3"/>
          <p:cNvSpPr/>
          <p:nvPr/>
        </p:nvSpPr>
        <p:spPr>
          <a:xfrm>
            <a:off x="950760" y="2219400"/>
            <a:ext cx="6771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Critical Path = All tasks with slack =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21D0-A7F6-47AE-8698-2EE518FDD93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Rectangle 2"/>
          <p:cNvSpPr/>
          <p:nvPr/>
        </p:nvSpPr>
        <p:spPr>
          <a:xfrm>
            <a:off x="782640" y="1904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Critical Path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3"/>
          <p:cNvSpPr/>
          <p:nvPr/>
        </p:nvSpPr>
        <p:spPr>
          <a:xfrm>
            <a:off x="-25920" y="1266840"/>
            <a:ext cx="914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Task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   Description      Immediate Predecessor   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Time      ES    LS      EF     LF   S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Line 4"/>
          <p:cNvSpPr/>
          <p:nvPr/>
        </p:nvSpPr>
        <p:spPr>
          <a:xfrm>
            <a:off x="642960" y="1752480"/>
            <a:ext cx="835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5"/>
          <p:cNvSpPr/>
          <p:nvPr/>
        </p:nvSpPr>
        <p:spPr>
          <a:xfrm>
            <a:off x="-561960" y="1876320"/>
            <a:ext cx="1030968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epare Dock Sit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0      3        3      6 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B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Prepare Hut Sit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0      0        4      4</a:t>
            </a:r>
            <a:r>
              <a:rPr b="1" lang="en-US" sz="1800" spc="-1" strike="noStrike">
                <a:solidFill>
                  <a:srgbClr val="00279f"/>
                </a:solidFill>
                <a:latin typeface="Book Antiqua"/>
              </a:rPr>
              <a:t> 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nstall Dock Piling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6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     6        9     12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Foundation for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     4        7      7 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uild Dock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9     12     13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Frame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7      7      10     10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ower to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7     14       9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H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Side the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  10     12     12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oof the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  13     13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rder Canoes and Receive Canoe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0       4       2       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K         Paint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2   12     16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ssemble Canoe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2     6      12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M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Finish Landscapin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L,I,K,E,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6   16     20     20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N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Open for Busines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           20   20     22     22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6"/>
          <p:cNvSpPr/>
          <p:nvPr/>
        </p:nvSpPr>
        <p:spPr>
          <a:xfrm>
            <a:off x="964440" y="5877000"/>
            <a:ext cx="6210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Critical Path =  B - D - F - H - K - M -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E936-E134-4FCD-80E4-6B920A739B2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PM ( A-O-N) 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M network for computer Design Proj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2" name=""/>
          <p:cNvGraphicFramePr/>
          <p:nvPr/>
        </p:nvGraphicFramePr>
        <p:xfrm>
          <a:off x="457200" y="1981080"/>
          <a:ext cx="8001000" cy="4145040"/>
        </p:xfrm>
        <a:graphic>
          <a:graphicData uri="http://schemas.openxmlformats.org/drawingml/2006/table">
            <a:tbl>
              <a:tblPr/>
              <a:tblGrid>
                <a:gridCol w="3733920"/>
                <a:gridCol w="2133360"/>
                <a:gridCol w="99072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g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g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d prot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 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Prototype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equipm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e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,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methods re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,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final re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,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7226-885A-4A48-A391-E555DD376E1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Oval 5"/>
          <p:cNvSpPr/>
          <p:nvPr/>
        </p:nvSpPr>
        <p:spPr>
          <a:xfrm>
            <a:off x="1143000" y="2438280"/>
            <a:ext cx="83808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Line 6"/>
          <p:cNvSpPr/>
          <p:nvPr/>
        </p:nvSpPr>
        <p:spPr>
          <a:xfrm flipV="1">
            <a:off x="1905120" y="22096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Oval 7"/>
          <p:cNvSpPr/>
          <p:nvPr/>
        </p:nvSpPr>
        <p:spPr>
          <a:xfrm>
            <a:off x="2895480" y="1447920"/>
            <a:ext cx="83844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Oval 8"/>
          <p:cNvSpPr/>
          <p:nvPr/>
        </p:nvSpPr>
        <p:spPr>
          <a:xfrm>
            <a:off x="2819520" y="4114800"/>
            <a:ext cx="83808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Line 9"/>
          <p:cNvSpPr/>
          <p:nvPr/>
        </p:nvSpPr>
        <p:spPr>
          <a:xfrm>
            <a:off x="17524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Oval 10"/>
          <p:cNvSpPr/>
          <p:nvPr/>
        </p:nvSpPr>
        <p:spPr>
          <a:xfrm>
            <a:off x="6553080" y="1523880"/>
            <a:ext cx="83844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Oval 11"/>
          <p:cNvSpPr/>
          <p:nvPr/>
        </p:nvSpPr>
        <p:spPr>
          <a:xfrm>
            <a:off x="4952880" y="4191120"/>
            <a:ext cx="83844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12"/>
          <p:cNvSpPr/>
          <p:nvPr/>
        </p:nvSpPr>
        <p:spPr>
          <a:xfrm>
            <a:off x="6629400" y="4114800"/>
            <a:ext cx="83808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13"/>
          <p:cNvSpPr/>
          <p:nvPr/>
        </p:nvSpPr>
        <p:spPr>
          <a:xfrm>
            <a:off x="8077320" y="2590920"/>
            <a:ext cx="83808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Line 14"/>
          <p:cNvSpPr/>
          <p:nvPr/>
        </p:nvSpPr>
        <p:spPr>
          <a:xfrm>
            <a:off x="3657600" y="4724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Line 15"/>
          <p:cNvSpPr/>
          <p:nvPr/>
        </p:nvSpPr>
        <p:spPr>
          <a:xfrm>
            <a:off x="5791320" y="4724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Line 16"/>
          <p:cNvSpPr/>
          <p:nvPr/>
        </p:nvSpPr>
        <p:spPr>
          <a:xfrm flipV="1">
            <a:off x="7467480" y="36576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Line 17"/>
          <p:cNvSpPr/>
          <p:nvPr/>
        </p:nvSpPr>
        <p:spPr>
          <a:xfrm>
            <a:off x="7391520" y="21337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Line 18"/>
          <p:cNvSpPr/>
          <p:nvPr/>
        </p:nvSpPr>
        <p:spPr>
          <a:xfrm flipV="1">
            <a:off x="5562720" y="2590920"/>
            <a:ext cx="10666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Line 19"/>
          <p:cNvSpPr/>
          <p:nvPr/>
        </p:nvSpPr>
        <p:spPr>
          <a:xfrm>
            <a:off x="3733920" y="19810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Line 20"/>
          <p:cNvSpPr/>
          <p:nvPr/>
        </p:nvSpPr>
        <p:spPr>
          <a:xfrm>
            <a:off x="3657600" y="2362320"/>
            <a:ext cx="3124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7364-76F2-4CA0-AB4D-B003FC32E84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e the Critical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 pa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: the earliest possible time the activity can be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 : the early start time the time needed to complete the activity.   ( EF = ES + Dur ) Backwards p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4T19:33:58Z</dcterms:created>
  <dc:creator>David Groebner</dc:creator>
  <dc:description/>
  <dc:language>en-US</dc:language>
  <cp:lastModifiedBy>Maher ARAFAT</cp:lastModifiedBy>
  <cp:lastPrinted>1999-08-23T17:38:25Z</cp:lastPrinted>
  <dcterms:modified xsi:type="dcterms:W3CDTF">2013-08-18T16:08:38Z</dcterms:modified>
  <cp:revision>20</cp:revision>
  <dc:subject/>
  <dc:title>No Slide Title</dc:title>
</cp:coreProperties>
</file>